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B61-8FBF-4761-8682-5C472101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546-A209-4F8A-9C71-BA473E68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C53-C44C-4D27-97DA-40A1AE71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307-01BE-4E97-A742-C758893B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92F2-D1AF-4A3E-BEE8-0EA664F1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0EA9-7184-44AC-8BE8-42111F30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1A1-D96A-47C2-BF54-F729B75F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922C-4AE6-40DD-A29F-B04CD0C4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B8E4-0872-4627-BC74-EC73D8CD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7D9E-1658-4013-9AED-2B59AA61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E21F-5422-439E-97BC-7D3EBAF1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632-E77C-43D7-BE34-ABC75FB8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0ABB-9BE9-4FE6-91DB-A71FE04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A7A5-62C8-4588-A013-5232C19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7D60-0533-4F8B-ADC6-5278794F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5165-2C21-4FA3-9F01-E5C302A7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41CC-AEF5-4A62-AA95-8949FD16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7F5-B880-479C-9E1B-A2BEA77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2AE-1692-4A28-B32B-B46E8A58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873-9F35-4137-B501-1319DFCF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A9C-86D1-44E3-B692-7FBB8847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D50-5BB0-4F68-9BF0-A931C1A6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EAB-931E-4918-9FD5-7B7E89A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733-281F-412F-B486-6D6EDB59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43AB-B951-4848-ABA6-FB3D8CBCA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MT Extra Bold"/>
              </a:rPr>
              <a:t>Watershed &amp; Water Quality Modeling Technical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0779-B622-426A-8BD0-7D878C0AD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ling Mercur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ke Waccamaw, North Caroli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wo Segment Lake Waccama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86000"/>
            <a:ext cx="4267080" cy="40384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4840" y="2908440"/>
            <a:ext cx="2971800" cy="28191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1480" y="1614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9810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680" y="19051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yt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2860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1752480"/>
            <a:ext cx="3733920" cy="29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ke Area: 34,706,448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 = sqrt(A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33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825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5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9,634,575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yttj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25,071,873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90920" y="2666520"/>
            <a:ext cx="1218960" cy="1600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3429000"/>
            <a:ext cx="121896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86200" y="3352320"/>
            <a:ext cx="60948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36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8320" y="350532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7600" y="373392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3657600"/>
            <a:ext cx="13716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133720"/>
            <a:ext cx="1371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362320"/>
            <a:ext cx="1523880" cy="838080"/>
          </a:xfrm>
          <a:prstGeom prst="rightArrow">
            <a:avLst>
              <a:gd name="adj1" fmla="val 50000"/>
              <a:gd name="adj2" fmla="val 454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8 m3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wo Segment Lake Waccama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21337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600" y="2819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3657600"/>
            <a:ext cx="457200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122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82400" y="36450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Gyt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4114800"/>
            <a:ext cx="4572000" cy="83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7088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ed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41148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2560" y="36576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4840" y="4267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8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133720"/>
            <a:ext cx="45720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12200" y="41911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5560" y="36576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0481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2362320"/>
            <a:ext cx="1523880" cy="838080"/>
          </a:xfrm>
          <a:prstGeom prst="rightArrow">
            <a:avLst>
              <a:gd name="adj1" fmla="val 50000"/>
              <a:gd name="adj2" fmla="val 454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8 m3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4080" y="1295280"/>
            <a:ext cx="23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 = 25,071,873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65720" y="1371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a = 9,634,575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6016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1337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8000" y="2819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198108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3600" y="1676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9640" y="1676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1981080"/>
            <a:ext cx="45720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600" y="984240"/>
            <a:ext cx="7620120" cy="5848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ing up Lake Waccama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9440" y="1359000"/>
            <a:ext cx="3808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209680"/>
            <a:ext cx="1600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97360"/>
            <a:ext cx="1600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08240" y="375912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20" y="24382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03200" y="22096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e Merc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181480" y="2438280"/>
            <a:ext cx="2438640" cy="76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438280"/>
            <a:ext cx="0" cy="609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60" y="4038480"/>
            <a:ext cx="12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/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ke Waccamaw, N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60400" y="914400"/>
            <a:ext cx="7277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ke Waccamaw, N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7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3716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Bay lake in Southeastern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60% of fish Hg conc &gt;1 ppm. (NCDE, 19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 Waccamaw is a popular spot fo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eational f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 Consumption Advisor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ty of Mercury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oal-Fired Electric Utility Bo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g Municipal Waste Inci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Lg coal or oil-fired industrial bo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p and paper 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ke Waccamaw, N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1136520"/>
          <a:ext cx="8596440" cy="4786560"/>
        </p:xfrm>
        <a:graphic>
          <a:graphicData uri="http://schemas.openxmlformats.org/drawingml/2006/table">
            <a:tbl>
              <a:tblPr/>
              <a:tblGrid>
                <a:gridCol w="2819520"/>
                <a:gridCol w="2957400"/>
                <a:gridCol w="2819520"/>
              </a:tblGrid>
              <a:tr h="46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d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Column MeHg, unfilt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32 – 0.233 ng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8 ng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Column HgT, unfilt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6 – 3.89 ng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1 ng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diment MeH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3 – 0.082 ng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 ng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diment Hg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2 – 28.7 ng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 ng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mouth Bass Tissue H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 – 2 ug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yr old bas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0 ug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ke Waccamaw, N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 Area: 34,706,448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Depth: 2.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 Volume: 79,824,830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aulic Residence Time: 0.66 y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ow/Outflow: 1.2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4.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 11 mg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0000" y="1828800"/>
            <a:ext cx="4734000" cy="502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65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ke Waccamaw, N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3020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9525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, flat bottom of gyttja (mud) and 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d by sandy shallows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 500m from 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ke Waccamaw, N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588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 Area: 34,706,448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Depth: 2.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4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 11 mg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ke Waccamaw Model Set-U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 Waccamaw has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andy Bottom Ring around the 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ddy/Gyttja layer in the middle of l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can be set up two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 these as one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as two se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/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r as one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more representative as 2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mor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over-parameteriz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00200" y="2133720"/>
            <a:ext cx="6095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362320"/>
            <a:ext cx="1523880" cy="838080"/>
          </a:xfrm>
          <a:prstGeom prst="rightArrow">
            <a:avLst>
              <a:gd name="adj1" fmla="val 50000"/>
              <a:gd name="adj2" fmla="val 454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8 m3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e Segment Lake Waccama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1337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8520" y="2514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8840" y="16002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34,706,448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2362320"/>
            <a:ext cx="1523880" cy="838080"/>
          </a:xfrm>
          <a:prstGeom prst="rightArrow">
            <a:avLst>
              <a:gd name="adj1" fmla="val 50000"/>
              <a:gd name="adj2" fmla="val 454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8 m3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657600"/>
            <a:ext cx="609588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296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2320" y="37083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Sed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267080"/>
            <a:ext cx="609588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7360" y="43322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urface Sed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657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267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8880" y="36576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7480" y="4267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5029200"/>
          <a:ext cx="8699400" cy="1460520"/>
        </p:xfrm>
        <a:graphic>
          <a:graphicData uri="http://schemas.openxmlformats.org/drawingml/2006/table">
            <a:tbl>
              <a:tblPr/>
              <a:tblGrid>
                <a:gridCol w="1098720"/>
                <a:gridCol w="2368440"/>
                <a:gridCol w="1263600"/>
                <a:gridCol w="793800"/>
                <a:gridCol w="1797120"/>
                <a:gridCol w="137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tom S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ilim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98248e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face Sed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94129e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urface Sed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7064e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face Bent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5:13:36Z</dcterms:created>
  <dc:creator>CKNIGHTES</dc:creator>
  <dc:description/>
  <dc:language>en-US</dc:language>
  <cp:lastModifiedBy>RAMBROSE</cp:lastModifiedBy>
  <dcterms:modified xsi:type="dcterms:W3CDTF">2005-07-13T12:51:17Z</dcterms:modified>
  <cp:revision>8</cp:revision>
  <dc:subject/>
  <dc:title>Modeling Mercury  in  Lake Waccamaw, North Carolina</dc:title>
</cp:coreProperties>
</file>