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7CED-A299-4757-923F-4A984C0C2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uylkill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ne 6 is not considered in this WLA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B2B-0822-493E-A028-B46F8C99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4E4-3B29-4589-8391-7C5932E6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306-44E5-4B66-89E8-30D2B371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9F4-9F76-4609-BF70-2A04E09E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FAA-6A49-4288-9633-5C636BFE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C632-FF4E-4164-BB99-CFBC343C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100-AE1C-4126-8BAB-A5213D4C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E5C-8CCB-47EB-8F95-C56BDB87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EE1-8633-4023-B564-8A9226F2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518-89F9-4D2D-8703-677FD398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EFB-083F-496E-B688-F9783F00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667-FE62-4D90-923F-AC9DF540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032A-DE74-4D5C-BAFB-FF09EAC0D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aware River PCB TMDL Modeling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ware River Basi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no-Tech,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 Load by Source Categ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1530360"/>
            <a:ext cx="762012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 Load by Source Categ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1449360"/>
            <a:ext cx="77724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 and PDC Load by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333440"/>
            <a:ext cx="78483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BIC Productio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C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68580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brated Longitudi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Seasonal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3 -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 - 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4 -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te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6 - 0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Discharge Carbon L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2095560"/>
            <a:ext cx="838224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ta-PCB  Load by Categ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153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int Source Discharge Lo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363680"/>
            <a:ext cx="65530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ta-PCB Dry Deposition Fluxes and Rain Concentrations by Sub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2448000"/>
            <a:ext cx="914400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595680" y="152280"/>
            <a:ext cx="5548320" cy="6705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335304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aware Estuary PCB Monitoring S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 Water penta-PC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1576440"/>
            <a:ext cx="73152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759" t="715" r="759" b="0"/>
          <a:stretch/>
        </p:blipFill>
        <p:spPr>
          <a:xfrm>
            <a:off x="762120" y="363600"/>
            <a:ext cx="7010280" cy="6494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aware Estuary PC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 Water penta-PC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" y="1587600"/>
            <a:ext cx="777240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 Water penta-PC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690560"/>
            <a:ext cx="73911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iment penta-PCB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720800"/>
            <a:ext cx="66294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im Calibr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1480" y="1262160"/>
            <a:ext cx="81424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im Calibr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6800" y="1305000"/>
            <a:ext cx="815184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im Calibr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3294" r="0" b="0"/>
          <a:stretch/>
        </p:blipFill>
        <p:spPr>
          <a:xfrm>
            <a:off x="496800" y="1449360"/>
            <a:ext cx="81518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im Calibr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6800" y="1305000"/>
            <a:ext cx="815184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mulative Frequency Distribu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CB in Zones 2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3400" y="2019240"/>
            <a:ext cx="74786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 Nov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ulated and the observed data showed a close agreement for organic carbon (BIC &amp; PDC) and PCBs (DDPCB &amp; PPCB) exception of PDC in turbidity max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alibration results good enough to use the Model to develop Stage 1 penta-PCB TMDLs for Delaware Estu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97280" y="0"/>
            <a:ext cx="53467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aware Estuary Model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26708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s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87 water column segments correspond to DYNHYD5 model j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egment overlies 3 benthic lay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aware Estuary Wasp5 Model State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4582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and volume (from hydrodynamic model DYNHYD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: biotic carbon and particulate detrital 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input as environmental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rganic solids input and held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B homolog groups (focus on pen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olved, sorbed, and DOC-complexed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ization exchange sim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ta PCBs correlated with total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ware WASP5 PCB Model Conceptual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598760"/>
          <a:ext cx="8991720" cy="52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98760"/>
                    <a:ext cx="899172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Calibration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1292400"/>
            <a:ext cx="822960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89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nput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00" y="1096920"/>
            <a:ext cx="91440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’s Law Cons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00200" y="1676520"/>
                <a:ext cx="59436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g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320" y="4572000"/>
            <a:ext cx="906768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3581280"/>
            <a:ext cx="86868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R = 0.0083143 J/atm-K, a = 18 – 50, b = 0.03 – 0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mford et al.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ids Burial Rate in Main Cha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8320" r="0" b="0"/>
          <a:stretch/>
        </p:blipFill>
        <p:spPr>
          <a:xfrm>
            <a:off x="304920" y="1539720"/>
            <a:ext cx="853416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1:34:07Z</dcterms:created>
  <dc:creator>RAMBROSE</dc:creator>
  <dc:description/>
  <dc:language>en-US</dc:language>
  <cp:lastModifiedBy>RAMBROSE</cp:lastModifiedBy>
  <dcterms:modified xsi:type="dcterms:W3CDTF">2005-04-20T15:03:21Z</dcterms:modified>
  <cp:revision>31</cp:revision>
  <dc:subject/>
  <dc:title>Delaware River PCB TMDL Modeling Analysis</dc:title>
</cp:coreProperties>
</file>