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CF1-4FE9-4245-8B19-891B1B8F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1D4-20FC-47DC-8BCC-4ED84578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2F2-63CC-4C26-AF69-CFEFDBA2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F54-B801-46CD-ADF7-F0474A10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84EA-BFF2-4C6E-B899-D79ABCFF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C4E-A4EC-40CF-9107-6738F37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8E0-D334-4A36-8064-8D49148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CB15-774A-4F05-BB3D-C1C81DA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897-F3A7-4CD0-AA5A-32AFF55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2E9-D474-4D41-A38E-7DA6355D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3F0A-2701-4983-8D78-00E0170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472-C944-461D-A8D2-A1DBE60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20E-C04B-46F7-8608-9EAF2D0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C554-DBD4-4D82-B2DC-358E447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B1F3-A9DC-413A-8E87-5A56352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D8A-E2D1-4FCE-B491-9973D41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B7A-0B75-400C-85C9-D40B2897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4E3-5C23-482C-925E-CB36F03D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77D-3835-4125-B43B-1E4A860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F16-ECDC-4393-94A7-D710155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95C-CD90-47EE-96FE-EA8CCC6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890-D595-40A9-9A07-0036945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0D7-A6DC-46AE-9DB0-810B4A8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948-03F9-4FD2-83A6-DDEBBAF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FA4-8F4E-4142-9F00-5BC8FD606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7CF-05F4-460E-B732-693F8A4EE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Process Equations and Model Inp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pes of Biodegra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of interest is degraded in the presence of a different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tabolism does not result in bacterial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daptation time (of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degradation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” unaffected by “C”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“B” on environment using same method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ate counts) as in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Methane and Trichloroethylene (T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E is fortuitously oxidized by same enzyme that degrades Methane.  Bacteria gain nothing through this incidental reaction. Rather the TCE biodegradation products are toxic to the methane deg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SP Biodegradation Rout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395440"/>
            <a:ext cx="74199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Second Order Biodegradation Rate Constant [ml/cell/h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Active Bacterial Population Concentration [cells/m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Pseudo first-order rate constant [per hou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43200" y="1143000"/>
                <a:ext cx="33526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28600" y="3733920"/>
            <a:ext cx="815328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y Bacteria Concentration [ml/cell/h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Pseudo-First Or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teria Concentration is held Cons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mp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ime-varying first-order rate const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, and use time-varying Bacteria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vironmental Influ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1712880"/>
            <a:ext cx="8867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of reactions and bacterial growth are functions of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growth rate doubles for each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.5 –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ent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Conc of Phospho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x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s decrease for Dissolved Oxygen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erobic rates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19520" y="2819520"/>
                <a:ext cx="32763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19520" y="3733920"/>
                <a:ext cx="2590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resentative Population Siz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523880"/>
          <a:ext cx="8229600" cy="40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Body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teri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igotrophic 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–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otrophic 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 – 1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trophic 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 – 1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trophic Reservo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00 – 5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trophic L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 – 2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urficial Sedi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9 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ls/g dry w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surface wa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– 1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 Sedi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7 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ls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 River (wint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0" y="1295280"/>
            <a:ext cx="4724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 “Parameters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 Fun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 Wate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 of Active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 Options and In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Constants Dat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biodegradation rate cons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thic [per day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 [per day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eous ions [mL/cell-day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-comple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10, Temp correction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 Yield Coeffic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Time Functio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t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542880" cy="511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48320" y="3886200"/>
            <a:ext cx="4495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 “Segments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 Fun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 Function 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 of Active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517680" cy="533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458200" y="1676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458200" y="3962520"/>
            <a:ext cx="538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390840" y="254160"/>
            <a:ext cx="3049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914400"/>
            <a:ext cx="10666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335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5238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2004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49528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4600" y="21430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mi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1840" y="3809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mi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5562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mi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81480" y="990720"/>
            <a:ext cx="3657600" cy="3281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3809880" y="990720"/>
            <a:ext cx="1371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137160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4160" y="228600"/>
            <a:ext cx="2073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Biodegra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t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7120" y="838080"/>
            <a:ext cx="38124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7162920" y="12193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ction 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7620120" y="2437920"/>
            <a:ext cx="304560" cy="685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7924680" y="2819160"/>
            <a:ext cx="60984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17000" y="55627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, Mass Y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effic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934320" y="31240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238520" y="3657600"/>
            <a:ext cx="76212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447920"/>
            <a:ext cx="1828800" cy="1676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58160" cy="5686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8120" y="3808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437920" y="68580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1752480"/>
            <a:ext cx="22860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91440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8160" y="5791320"/>
            <a:ext cx="1828080" cy="64260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s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295280"/>
            <a:ext cx="6858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00200" y="4419720"/>
            <a:ext cx="114300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66680" y="2209680"/>
            <a:ext cx="106704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209680"/>
            <a:ext cx="1828800" cy="916920"/>
          </a:xfrm>
          <a:prstGeom prst="rect">
            <a:avLst/>
          </a:prstGeom>
          <a:solidFill>
            <a:srgbClr val="bbe0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1981080"/>
            <a:ext cx="22860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076640"/>
            <a:ext cx="22860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38560" y="2133720"/>
            <a:ext cx="4105440" cy="4476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1485600">
            <a:off x="4051080" y="3024000"/>
            <a:ext cx="2307960" cy="920520"/>
          </a:xfrm>
          <a:prstGeom prst="rightArrow">
            <a:avLst>
              <a:gd name="adj1" fmla="val 50000"/>
              <a:gd name="adj2" fmla="val 62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295200"/>
            <a:ext cx="205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urn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iodegra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333520" y="3049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1760" y="533520"/>
            <a:ext cx="16002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371600"/>
            <a:ext cx="22100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1371600"/>
            <a:ext cx="19810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37160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2670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419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61600" y="449568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s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273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400" y="1123920"/>
            <a:ext cx="76176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6000" y="127080"/>
            <a:ext cx="201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“Seg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00200" y="1981080"/>
            <a:ext cx="7621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198072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620120" y="1980720"/>
            <a:ext cx="6858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5120" y="108000"/>
            <a:ext cx="205992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d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m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8664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35480" y="914400"/>
            <a:ext cx="3908520" cy="5943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33920" y="2514600"/>
            <a:ext cx="2666880" cy="762120"/>
          </a:xfrm>
          <a:prstGeom prst="rightArrow">
            <a:avLst>
              <a:gd name="adj1" fmla="val 50000"/>
              <a:gd name="adj2" fmla="val 874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Tim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380880"/>
            <a:ext cx="3045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360" y="609480"/>
            <a:ext cx="160020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1295280"/>
            <a:ext cx="320040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886200"/>
            <a:ext cx="320040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4038480"/>
            <a:ext cx="320040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762120"/>
            <a:ext cx="1488240" cy="146556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sso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/poi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2,3&amp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3720" y="4495680"/>
            <a:ext cx="1920960" cy="1191240"/>
          </a:xfrm>
          <a:prstGeom prst="rect">
            <a:avLst/>
          </a:prstGeom>
          <a:solidFill>
            <a:srgbClr val="bbe0e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cent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d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133720"/>
            <a:ext cx="1295640" cy="711000"/>
          </a:xfrm>
          <a:custGeom>
            <a:avLst/>
            <a:gdLst/>
            <a:ahLst/>
            <a:rect l="l" t="t" r="r" b="b"/>
            <a:pathLst>
              <a:path w="816" h="448">
                <a:moveTo>
                  <a:pt x="0" y="96"/>
                </a:moveTo>
                <a:cubicBezTo>
                  <a:pt x="100" y="272"/>
                  <a:pt x="200" y="448"/>
                  <a:pt x="336" y="432"/>
                </a:cubicBezTo>
                <a:cubicBezTo>
                  <a:pt x="472" y="416"/>
                  <a:pt x="736" y="72"/>
                  <a:pt x="8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4038120"/>
            <a:ext cx="2286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4190760"/>
            <a:ext cx="2286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57200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l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im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5638680"/>
            <a:ext cx="6858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terial Degra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e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da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(cells/m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population density, bac, (cells/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4191120"/>
                <a:ext cx="5181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95480" y="1600200"/>
                <a:ext cx="5867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lum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nthic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d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en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d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71800" y="3200400"/>
                <a:ext cx="2117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egrad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crobially mediated breakdown of org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transform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crobial trans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diat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ound formed in biodegradation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eraliz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crobial reactions lead to complete breakdow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substrat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ult i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7.5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-End Produc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ermediates in Biodegradation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are not further biodegr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eneral expression of biodegradation rate 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ubstrate Concentration [g/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first-order biodegradation rate [da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934320" y="4981680"/>
                <a:ext cx="2209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548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8120" y="1544760"/>
            <a:ext cx="6095880" cy="5313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809520" y="12193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20" y="2514600"/>
            <a:ext cx="2526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degra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nz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ence.umd.ed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~eseagren/bioAHC9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Biodegradation Rat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990720"/>
          <a:ext cx="9202680" cy="5714640"/>
        </p:xfrm>
        <a:graphic>
          <a:graphicData uri="http://schemas.openxmlformats.org/drawingml/2006/table">
            <a:tbl>
              <a:tblPr/>
              <a:tblGrid>
                <a:gridCol w="2819520"/>
                <a:gridCol w="3106440"/>
                <a:gridCol w="3276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-order k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per day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tic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1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r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 – 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oclor 1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 – 0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genated H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loro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9 –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genated E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Chloroethyl vinyl e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 – 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cyclic Arom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tachlorophen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 – 3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6 –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u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 – 0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cyclic Arom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hrac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 – 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o[a]pyr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 – 0.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thalate E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s(2-ethylhexyl)phtha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 – 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id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thyl nitros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 Kine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60" y="1009800"/>
            <a:ext cx="9126000" cy="5359320"/>
            <a:chOff x="360" y="1009800"/>
            <a:chExt cx="9126000" cy="535932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352680" y="5743440"/>
                  <a:ext cx="1524240" cy="62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Y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5" name=""/>
            <p:cNvGrpSpPr/>
            <p:nvPr/>
          </p:nvGrpSpPr>
          <p:grpSpPr>
            <a:xfrm>
              <a:off x="360" y="1009800"/>
              <a:ext cx="9126000" cy="5247720"/>
              <a:chOff x="360" y="1009800"/>
              <a:chExt cx="9126000" cy="5247720"/>
            </a:xfrm>
          </p:grpSpPr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3352680" y="1052640"/>
                    <a:ext cx="1360440" cy="82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7" name=""/>
              <p:cNvSpPr/>
              <p:nvPr/>
            </p:nvSpPr>
            <p:spPr>
              <a:xfrm>
                <a:off x="360" y="4905360"/>
                <a:ext cx="196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nod Kinetics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3352680" y="4741560"/>
                    <a:ext cx="2590920" cy="84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1800" y="1216440"/>
                <a:ext cx="205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General Kinetics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40" y="2117880"/>
                <a:ext cx="272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ond Order Kinetics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80" y="3101760"/>
                <a:ext cx="328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seudo First Order Kinetics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40" y="5889240"/>
                <a:ext cx="207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iomass Growth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" name=""/>
                  <p:cNvSpPr txBox="1"/>
                  <p:nvPr/>
                </p:nvSpPr>
                <p:spPr>
                  <a:xfrm>
                    <a:off x="3352680" y="2036160"/>
                    <a:ext cx="1532160" cy="75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3355920" y="2937960"/>
                    <a:ext cx="12952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5" name=""/>
              <p:cNvSpPr/>
              <p:nvPr/>
            </p:nvSpPr>
            <p:spPr>
              <a:xfrm>
                <a:off x="6080040" y="1009800"/>
                <a:ext cx="3046320" cy="52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Substrate [mg/L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Biomass [cell/L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Half-Saturation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efficient [mg/L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Stoichiometric Yield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efficient [cell/mg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tilization Rate Cons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general [mg/cell/hr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: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second order [L/cell/hr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: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pseudo first order [per hr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zero order [per hr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i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: maximum [mg/cell/hr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00" y="4003920"/>
                <a:ext cx="239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ero Order Kinetics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7" name=""/>
                  <p:cNvSpPr txBox="1"/>
                  <p:nvPr/>
                </p:nvSpPr>
                <p:spPr>
                  <a:xfrm>
                    <a:off x="3352680" y="3808800"/>
                    <a:ext cx="1143000" cy="75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od Kine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81760" y="2476440"/>
                <a:ext cx="1371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222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000" y="730080"/>
            <a:ext cx="75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Aqueous Biodegradation of Naphthalen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Knightes and Peters,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6 h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57 mg/L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4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5 mg/L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1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105520"/>
            <a:ext cx="8871120" cy="1752480"/>
            <a:chOff x="0" y="5105520"/>
            <a:chExt cx="8871120" cy="175248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2819520" y="5943600"/>
                  <a:ext cx="281916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57200" y="5967360"/>
                  <a:ext cx="198108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0" y="5105520"/>
              <a:ext cx="88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ero Order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Transi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First Order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990720" y="5562720"/>
                  <a:ext cx="129528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934320" y="5562720"/>
                  <a:ext cx="114300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733920" y="5562720"/>
                  <a:ext cx="106668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≈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6553080" y="5962680"/>
                  <a:ext cx="2133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C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0" y="1457280"/>
            <a:ext cx="9144000" cy="3619440"/>
            <a:chOff x="0" y="1457280"/>
            <a:chExt cx="9144000" cy="3619440"/>
          </a:xfrm>
        </p:grpSpPr>
        <p:grpSp>
          <p:nvGrpSpPr>
            <p:cNvPr id="144" name=""/>
            <p:cNvGrpSpPr/>
            <p:nvPr/>
          </p:nvGrpSpPr>
          <p:grpSpPr>
            <a:xfrm>
              <a:off x="0" y="1457280"/>
              <a:ext cx="9144000" cy="3619440"/>
              <a:chOff x="0" y="1457280"/>
              <a:chExt cx="9144000" cy="36194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457280"/>
                <a:ext cx="4800600" cy="361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1457280"/>
                <a:ext cx="4572000" cy="3619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"/>
            <p:cNvSpPr/>
            <p:nvPr/>
          </p:nvSpPr>
          <p:spPr>
            <a:xfrm>
              <a:off x="7317000" y="211464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ro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9240" y="4248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st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2440" y="27241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6200" y="196200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ro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440" y="43243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st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2040" y="38671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 Metabo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down of subst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s of products into building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degradation Metabo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c compound serves as a food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bial adaptation time -- 2-5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for chronic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for high microbial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er in presence of easily degradable carbon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first-order rates after ada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57:45Z</dcterms:created>
  <dc:creator>CKNIGHTES</dc:creator>
  <dc:description/>
  <dc:language>en-US</dc:language>
  <cp:lastModifiedBy>RAMBROSE</cp:lastModifiedBy>
  <dcterms:modified xsi:type="dcterms:W3CDTF">2005-07-12T15:02:06Z</dcterms:modified>
  <cp:revision>15</cp:revision>
  <dc:subject/>
  <dc:title>Organic Chemical Model</dc:title>
</cp:coreProperties>
</file>