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4.wmf" ContentType="image/x-wmf"/>
  <Override PartName="/ppt/media/image5.jpeg" ContentType="image/jpeg"/>
  <Override PartName="/ppt/media/image10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2D46-1098-4428-BD9F-513F18B4A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BAC5-D592-46D0-9055-CD294B0CA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8C1E-D934-47E9-9EE5-024970D6C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ACD3-E70D-43DA-BAC7-3FD77D0A9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818CC-1869-40BD-B405-CB324670D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992A1-32F3-43C0-8E75-4DBE3B3AE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46967-0FC7-429B-8FFB-45EB576FE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B853E-39B7-45DD-9B9E-8A19EF895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6B6F1-34F2-43D2-8A18-E69ECDF56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9AEAC-DCEB-46B2-A922-A6D80A3DD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6A816-DAD0-4B00-B008-1481884B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29F5-2A8D-4958-9818-01CF84EA4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FBC2E-B1C4-43DE-9F8B-CA208FA8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F890B-89CC-4B6C-B04B-049AB817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2D7B4-1C0D-4DD7-981E-A1C9DCF6C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FB7E8-5B0D-4F0E-B2C7-16AFAB263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6C71E-2B93-4E79-AE83-BAB9ABA4B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80AC8-0AAF-474A-ADA2-187C4A102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1A5C7-7082-4B40-BAF0-3A4746C82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DD99D-37C6-4EEC-92BC-32FE9AE14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5D138-41B9-4628-A749-FEDCC33DC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BDD8B-9B5A-4730-8093-9FCE19766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048A-B67C-42CC-A0F3-6F0FD520B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C957D-7260-4D2B-B3D6-D19BE5A2F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48145-C97B-47E7-9DF2-75408F82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11981-1570-41F2-802F-94B3CFFA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518FB-4FC2-4663-B981-CF029BBA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14968-A09D-4162-9A12-66541CBB8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C0B31-B1F8-40A1-BD6F-F252171E2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14A59-A788-491F-8065-BFDB54312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8B59-0F4D-4372-AE84-8AEE0C602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E9A3-E176-4D73-AD60-BE93D854F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9978-5170-49A7-BA99-A0E2A022D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CB28-720C-4FAA-8868-258A19DA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6F20-7844-469F-9E81-BC2DAF5B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FBFF-3731-4C51-9A2D-8253CBCC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79712-C0F8-455D-AEE3-7D435A6415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2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46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1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7D208-0FB5-455C-B79F-46A626AA5F0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20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24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B945B-5C98-4D91-BB2A-0563E3B8B56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2.jpeg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962520" y="4114800"/>
            <a:ext cx="5181480" cy="1538280"/>
          </a:xfrm>
          <a:custGeom>
            <a:avLst/>
            <a:gdLst/>
            <a:ahLst/>
            <a:rect l="l" t="t" r="r" b="b"/>
            <a:pathLst>
              <a:path w="2664" h="969">
                <a:moveTo>
                  <a:pt x="0" y="969"/>
                </a:moveTo>
                <a:cubicBezTo>
                  <a:pt x="9" y="942"/>
                  <a:pt x="21" y="855"/>
                  <a:pt x="32" y="841"/>
                </a:cubicBezTo>
                <a:cubicBezTo>
                  <a:pt x="54" y="813"/>
                  <a:pt x="165" y="792"/>
                  <a:pt x="200" y="785"/>
                </a:cubicBezTo>
                <a:cubicBezTo>
                  <a:pt x="234" y="751"/>
                  <a:pt x="265" y="755"/>
                  <a:pt x="304" y="729"/>
                </a:cubicBezTo>
                <a:cubicBezTo>
                  <a:pt x="362" y="641"/>
                  <a:pt x="436" y="662"/>
                  <a:pt x="544" y="657"/>
                </a:cubicBezTo>
                <a:cubicBezTo>
                  <a:pt x="581" y="629"/>
                  <a:pt x="611" y="604"/>
                  <a:pt x="656" y="593"/>
                </a:cubicBezTo>
                <a:cubicBezTo>
                  <a:pt x="709" y="558"/>
                  <a:pt x="754" y="513"/>
                  <a:pt x="816" y="497"/>
                </a:cubicBezTo>
                <a:cubicBezTo>
                  <a:pt x="882" y="453"/>
                  <a:pt x="962" y="435"/>
                  <a:pt x="1040" y="425"/>
                </a:cubicBezTo>
                <a:cubicBezTo>
                  <a:pt x="1048" y="420"/>
                  <a:pt x="1055" y="412"/>
                  <a:pt x="1064" y="409"/>
                </a:cubicBezTo>
                <a:cubicBezTo>
                  <a:pt x="1085" y="401"/>
                  <a:pt x="1128" y="393"/>
                  <a:pt x="1128" y="393"/>
                </a:cubicBezTo>
                <a:cubicBezTo>
                  <a:pt x="1185" y="355"/>
                  <a:pt x="1283" y="365"/>
                  <a:pt x="1344" y="361"/>
                </a:cubicBezTo>
                <a:cubicBezTo>
                  <a:pt x="1384" y="335"/>
                  <a:pt x="1416" y="300"/>
                  <a:pt x="1456" y="273"/>
                </a:cubicBezTo>
                <a:cubicBezTo>
                  <a:pt x="1488" y="225"/>
                  <a:pt x="1546" y="223"/>
                  <a:pt x="1600" y="217"/>
                </a:cubicBezTo>
                <a:cubicBezTo>
                  <a:pt x="1683" y="196"/>
                  <a:pt x="1765" y="174"/>
                  <a:pt x="1848" y="153"/>
                </a:cubicBezTo>
                <a:cubicBezTo>
                  <a:pt x="1897" y="87"/>
                  <a:pt x="1953" y="98"/>
                  <a:pt x="2032" y="89"/>
                </a:cubicBezTo>
                <a:cubicBezTo>
                  <a:pt x="2112" y="80"/>
                  <a:pt x="2195" y="67"/>
                  <a:pt x="2272" y="41"/>
                </a:cubicBezTo>
                <a:cubicBezTo>
                  <a:pt x="2348" y="16"/>
                  <a:pt x="2432" y="36"/>
                  <a:pt x="2512" y="33"/>
                </a:cubicBezTo>
                <a:cubicBezTo>
                  <a:pt x="2563" y="16"/>
                  <a:pt x="2623" y="0"/>
                  <a:pt x="2664" y="41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124080"/>
            <a:ext cx="1828800" cy="91440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362320"/>
            <a:ext cx="304920" cy="1676160"/>
          </a:xfrm>
          <a:prstGeom prst="can">
            <a:avLst>
              <a:gd name="adj" fmla="val 4689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352680"/>
            <a:ext cx="19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nthropogenic Emis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Cloud"/>
          <p:cNvSpPr/>
          <p:nvPr/>
        </p:nvSpPr>
        <p:spPr>
          <a:xfrm>
            <a:off x="3657600" y="838080"/>
            <a:ext cx="4267080" cy="914400"/>
          </a:xfrm>
          <a:prstGeom prst="pie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248520" y="1752480"/>
            <a:ext cx="0" cy="14479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343400" y="182880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Wet Depos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2743200"/>
            <a:ext cx="1904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Dry Depos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86200" y="205740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666880" y="449568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057400" y="5867280"/>
            <a:ext cx="15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Eva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atershed Mercury Process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-76320" y="1981080"/>
            <a:ext cx="1295640" cy="908280"/>
          </a:xfrm>
          <a:custGeom>
            <a:avLst/>
            <a:gdLst/>
            <a:ahLst/>
            <a:rect l="l" t="t" r="r" b="b"/>
            <a:pathLst>
              <a:path w="1157" h="812">
                <a:moveTo>
                  <a:pt x="48" y="652"/>
                </a:moveTo>
                <a:cubicBezTo>
                  <a:pt x="83" y="617"/>
                  <a:pt x="93" y="561"/>
                  <a:pt x="136" y="532"/>
                </a:cubicBezTo>
                <a:cubicBezTo>
                  <a:pt x="163" y="514"/>
                  <a:pt x="224" y="492"/>
                  <a:pt x="224" y="492"/>
                </a:cubicBezTo>
                <a:cubicBezTo>
                  <a:pt x="282" y="405"/>
                  <a:pt x="253" y="262"/>
                  <a:pt x="352" y="212"/>
                </a:cubicBezTo>
                <a:cubicBezTo>
                  <a:pt x="379" y="171"/>
                  <a:pt x="407" y="100"/>
                  <a:pt x="456" y="84"/>
                </a:cubicBezTo>
                <a:cubicBezTo>
                  <a:pt x="467" y="68"/>
                  <a:pt x="477" y="52"/>
                  <a:pt x="488" y="36"/>
                </a:cubicBezTo>
                <a:cubicBezTo>
                  <a:pt x="493" y="28"/>
                  <a:pt x="504" y="12"/>
                  <a:pt x="504" y="12"/>
                </a:cubicBezTo>
                <a:cubicBezTo>
                  <a:pt x="538" y="21"/>
                  <a:pt x="558" y="39"/>
                  <a:pt x="592" y="28"/>
                </a:cubicBezTo>
                <a:cubicBezTo>
                  <a:pt x="600" y="20"/>
                  <a:pt x="605" y="6"/>
                  <a:pt x="616" y="4"/>
                </a:cubicBezTo>
                <a:cubicBezTo>
                  <a:pt x="643" y="0"/>
                  <a:pt x="645" y="41"/>
                  <a:pt x="648" y="52"/>
                </a:cubicBezTo>
                <a:cubicBezTo>
                  <a:pt x="662" y="99"/>
                  <a:pt x="683" y="141"/>
                  <a:pt x="712" y="180"/>
                </a:cubicBezTo>
                <a:cubicBezTo>
                  <a:pt x="721" y="217"/>
                  <a:pt x="730" y="239"/>
                  <a:pt x="768" y="252"/>
                </a:cubicBezTo>
                <a:cubicBezTo>
                  <a:pt x="837" y="206"/>
                  <a:pt x="817" y="301"/>
                  <a:pt x="840" y="340"/>
                </a:cubicBezTo>
                <a:cubicBezTo>
                  <a:pt x="868" y="390"/>
                  <a:pt x="857" y="357"/>
                  <a:pt x="896" y="396"/>
                </a:cubicBezTo>
                <a:cubicBezTo>
                  <a:pt x="922" y="422"/>
                  <a:pt x="938" y="455"/>
                  <a:pt x="960" y="484"/>
                </a:cubicBezTo>
                <a:cubicBezTo>
                  <a:pt x="973" y="500"/>
                  <a:pt x="985" y="517"/>
                  <a:pt x="1000" y="532"/>
                </a:cubicBezTo>
                <a:cubicBezTo>
                  <a:pt x="1008" y="540"/>
                  <a:pt x="1017" y="547"/>
                  <a:pt x="1024" y="556"/>
                </a:cubicBezTo>
                <a:cubicBezTo>
                  <a:pt x="1035" y="569"/>
                  <a:pt x="1157" y="679"/>
                  <a:pt x="1080" y="628"/>
                </a:cubicBezTo>
                <a:cubicBezTo>
                  <a:pt x="1002" y="641"/>
                  <a:pt x="931" y="667"/>
                  <a:pt x="856" y="692"/>
                </a:cubicBezTo>
                <a:cubicBezTo>
                  <a:pt x="845" y="679"/>
                  <a:pt x="838" y="662"/>
                  <a:pt x="824" y="652"/>
                </a:cubicBezTo>
                <a:cubicBezTo>
                  <a:pt x="793" y="628"/>
                  <a:pt x="779" y="652"/>
                  <a:pt x="760" y="676"/>
                </a:cubicBezTo>
                <a:cubicBezTo>
                  <a:pt x="730" y="714"/>
                  <a:pt x="718" y="744"/>
                  <a:pt x="696" y="788"/>
                </a:cubicBezTo>
                <a:cubicBezTo>
                  <a:pt x="687" y="806"/>
                  <a:pt x="644" y="810"/>
                  <a:pt x="632" y="812"/>
                </a:cubicBezTo>
                <a:cubicBezTo>
                  <a:pt x="627" y="796"/>
                  <a:pt x="621" y="780"/>
                  <a:pt x="616" y="764"/>
                </a:cubicBezTo>
                <a:cubicBezTo>
                  <a:pt x="613" y="756"/>
                  <a:pt x="608" y="740"/>
                  <a:pt x="608" y="740"/>
                </a:cubicBezTo>
                <a:cubicBezTo>
                  <a:pt x="564" y="749"/>
                  <a:pt x="546" y="755"/>
                  <a:pt x="520" y="716"/>
                </a:cubicBezTo>
                <a:cubicBezTo>
                  <a:pt x="503" y="649"/>
                  <a:pt x="525" y="654"/>
                  <a:pt x="448" y="676"/>
                </a:cubicBezTo>
                <a:cubicBezTo>
                  <a:pt x="426" y="708"/>
                  <a:pt x="409" y="704"/>
                  <a:pt x="376" y="724"/>
                </a:cubicBezTo>
                <a:cubicBezTo>
                  <a:pt x="343" y="744"/>
                  <a:pt x="307" y="781"/>
                  <a:pt x="272" y="796"/>
                </a:cubicBezTo>
                <a:cubicBezTo>
                  <a:pt x="262" y="800"/>
                  <a:pt x="207" y="811"/>
                  <a:pt x="200" y="812"/>
                </a:cubicBezTo>
                <a:cubicBezTo>
                  <a:pt x="189" y="696"/>
                  <a:pt x="203" y="715"/>
                  <a:pt x="96" y="700"/>
                </a:cubicBezTo>
                <a:cubicBezTo>
                  <a:pt x="85" y="695"/>
                  <a:pt x="76" y="685"/>
                  <a:pt x="64" y="684"/>
                </a:cubicBezTo>
                <a:cubicBezTo>
                  <a:pt x="45" y="682"/>
                  <a:pt x="26" y="698"/>
                  <a:pt x="8" y="692"/>
                </a:cubicBezTo>
                <a:cubicBezTo>
                  <a:pt x="0" y="689"/>
                  <a:pt x="11" y="675"/>
                  <a:pt x="16" y="668"/>
                </a:cubicBezTo>
                <a:cubicBezTo>
                  <a:pt x="30" y="651"/>
                  <a:pt x="34" y="652"/>
                  <a:pt x="48" y="652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129528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Natural Emis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53960" y="1012680"/>
            <a:ext cx="2975040" cy="1416240"/>
          </a:xfrm>
          <a:custGeom>
            <a:avLst/>
            <a:gdLst/>
            <a:ahLst/>
            <a:rect l="l" t="t" r="r" b="b"/>
            <a:pathLst>
              <a:path w="1880" h="892">
                <a:moveTo>
                  <a:pt x="104" y="616"/>
                </a:moveTo>
                <a:cubicBezTo>
                  <a:pt x="88" y="627"/>
                  <a:pt x="80" y="630"/>
                  <a:pt x="62" y="637"/>
                </a:cubicBezTo>
                <a:cubicBezTo>
                  <a:pt x="40" y="633"/>
                  <a:pt x="34" y="623"/>
                  <a:pt x="11" y="619"/>
                </a:cubicBezTo>
                <a:cubicBezTo>
                  <a:pt x="4" y="609"/>
                  <a:pt x="0" y="607"/>
                  <a:pt x="8" y="592"/>
                </a:cubicBezTo>
                <a:cubicBezTo>
                  <a:pt x="10" y="589"/>
                  <a:pt x="14" y="589"/>
                  <a:pt x="17" y="589"/>
                </a:cubicBezTo>
                <a:cubicBezTo>
                  <a:pt x="49" y="587"/>
                  <a:pt x="81" y="587"/>
                  <a:pt x="113" y="586"/>
                </a:cubicBezTo>
                <a:cubicBezTo>
                  <a:pt x="137" y="582"/>
                  <a:pt x="161" y="578"/>
                  <a:pt x="185" y="574"/>
                </a:cubicBezTo>
                <a:cubicBezTo>
                  <a:pt x="208" y="562"/>
                  <a:pt x="187" y="572"/>
                  <a:pt x="206" y="565"/>
                </a:cubicBezTo>
                <a:cubicBezTo>
                  <a:pt x="216" y="561"/>
                  <a:pt x="236" y="553"/>
                  <a:pt x="236" y="553"/>
                </a:cubicBezTo>
                <a:cubicBezTo>
                  <a:pt x="247" y="542"/>
                  <a:pt x="252" y="526"/>
                  <a:pt x="233" y="520"/>
                </a:cubicBezTo>
                <a:cubicBezTo>
                  <a:pt x="224" y="484"/>
                  <a:pt x="300" y="499"/>
                  <a:pt x="326" y="496"/>
                </a:cubicBezTo>
                <a:cubicBezTo>
                  <a:pt x="344" y="487"/>
                  <a:pt x="361" y="486"/>
                  <a:pt x="380" y="484"/>
                </a:cubicBezTo>
                <a:cubicBezTo>
                  <a:pt x="422" y="470"/>
                  <a:pt x="453" y="444"/>
                  <a:pt x="464" y="400"/>
                </a:cubicBezTo>
                <a:cubicBezTo>
                  <a:pt x="456" y="375"/>
                  <a:pt x="431" y="366"/>
                  <a:pt x="416" y="343"/>
                </a:cubicBezTo>
                <a:cubicBezTo>
                  <a:pt x="411" y="324"/>
                  <a:pt x="404" y="306"/>
                  <a:pt x="413" y="286"/>
                </a:cubicBezTo>
                <a:cubicBezTo>
                  <a:pt x="420" y="272"/>
                  <a:pt x="444" y="273"/>
                  <a:pt x="455" y="271"/>
                </a:cubicBezTo>
                <a:cubicBezTo>
                  <a:pt x="488" y="266"/>
                  <a:pt x="512" y="261"/>
                  <a:pt x="548" y="259"/>
                </a:cubicBezTo>
                <a:cubicBezTo>
                  <a:pt x="586" y="246"/>
                  <a:pt x="667" y="251"/>
                  <a:pt x="704" y="250"/>
                </a:cubicBezTo>
                <a:cubicBezTo>
                  <a:pt x="725" y="247"/>
                  <a:pt x="746" y="245"/>
                  <a:pt x="767" y="241"/>
                </a:cubicBezTo>
                <a:cubicBezTo>
                  <a:pt x="779" y="233"/>
                  <a:pt x="791" y="232"/>
                  <a:pt x="803" y="223"/>
                </a:cubicBezTo>
                <a:cubicBezTo>
                  <a:pt x="804" y="219"/>
                  <a:pt x="806" y="215"/>
                  <a:pt x="806" y="211"/>
                </a:cubicBezTo>
                <a:cubicBezTo>
                  <a:pt x="808" y="180"/>
                  <a:pt x="804" y="149"/>
                  <a:pt x="809" y="118"/>
                </a:cubicBezTo>
                <a:cubicBezTo>
                  <a:pt x="810" y="113"/>
                  <a:pt x="846" y="99"/>
                  <a:pt x="851" y="97"/>
                </a:cubicBezTo>
                <a:cubicBezTo>
                  <a:pt x="884" y="85"/>
                  <a:pt x="927" y="79"/>
                  <a:pt x="962" y="76"/>
                </a:cubicBezTo>
                <a:cubicBezTo>
                  <a:pt x="1018" y="62"/>
                  <a:pt x="1082" y="62"/>
                  <a:pt x="1139" y="58"/>
                </a:cubicBezTo>
                <a:cubicBezTo>
                  <a:pt x="1297" y="34"/>
                  <a:pt x="1452" y="14"/>
                  <a:pt x="1613" y="10"/>
                </a:cubicBezTo>
                <a:cubicBezTo>
                  <a:pt x="1675" y="0"/>
                  <a:pt x="1660" y="1"/>
                  <a:pt x="1778" y="10"/>
                </a:cubicBezTo>
                <a:cubicBezTo>
                  <a:pt x="1784" y="10"/>
                  <a:pt x="1800" y="25"/>
                  <a:pt x="1808" y="28"/>
                </a:cubicBezTo>
                <a:cubicBezTo>
                  <a:pt x="1832" y="52"/>
                  <a:pt x="1824" y="41"/>
                  <a:pt x="1835" y="58"/>
                </a:cubicBezTo>
                <a:cubicBezTo>
                  <a:pt x="1840" y="80"/>
                  <a:pt x="1845" y="156"/>
                  <a:pt x="1823" y="175"/>
                </a:cubicBezTo>
                <a:cubicBezTo>
                  <a:pt x="1812" y="185"/>
                  <a:pt x="1793" y="208"/>
                  <a:pt x="1793" y="208"/>
                </a:cubicBezTo>
                <a:cubicBezTo>
                  <a:pt x="1796" y="228"/>
                  <a:pt x="1797" y="248"/>
                  <a:pt x="1802" y="268"/>
                </a:cubicBezTo>
                <a:cubicBezTo>
                  <a:pt x="1806" y="286"/>
                  <a:pt x="1829" y="293"/>
                  <a:pt x="1838" y="307"/>
                </a:cubicBezTo>
                <a:cubicBezTo>
                  <a:pt x="1856" y="337"/>
                  <a:pt x="1873" y="372"/>
                  <a:pt x="1880" y="406"/>
                </a:cubicBezTo>
                <a:cubicBezTo>
                  <a:pt x="1854" y="474"/>
                  <a:pt x="1823" y="482"/>
                  <a:pt x="1757" y="493"/>
                </a:cubicBezTo>
                <a:cubicBezTo>
                  <a:pt x="1646" y="484"/>
                  <a:pt x="1538" y="473"/>
                  <a:pt x="1427" y="466"/>
                </a:cubicBezTo>
                <a:cubicBezTo>
                  <a:pt x="1354" y="468"/>
                  <a:pt x="1283" y="469"/>
                  <a:pt x="1211" y="475"/>
                </a:cubicBezTo>
                <a:cubicBezTo>
                  <a:pt x="1194" y="480"/>
                  <a:pt x="1184" y="479"/>
                  <a:pt x="1175" y="493"/>
                </a:cubicBezTo>
                <a:cubicBezTo>
                  <a:pt x="1182" y="519"/>
                  <a:pt x="1193" y="556"/>
                  <a:pt x="1211" y="577"/>
                </a:cubicBezTo>
                <a:cubicBezTo>
                  <a:pt x="1221" y="588"/>
                  <a:pt x="1238" y="613"/>
                  <a:pt x="1238" y="613"/>
                </a:cubicBezTo>
                <a:cubicBezTo>
                  <a:pt x="1235" y="629"/>
                  <a:pt x="1236" y="646"/>
                  <a:pt x="1229" y="661"/>
                </a:cubicBezTo>
                <a:cubicBezTo>
                  <a:pt x="1224" y="671"/>
                  <a:pt x="1212" y="676"/>
                  <a:pt x="1205" y="685"/>
                </a:cubicBezTo>
                <a:cubicBezTo>
                  <a:pt x="1141" y="759"/>
                  <a:pt x="1076" y="740"/>
                  <a:pt x="974" y="742"/>
                </a:cubicBezTo>
                <a:cubicBezTo>
                  <a:pt x="949" y="750"/>
                  <a:pt x="922" y="787"/>
                  <a:pt x="914" y="811"/>
                </a:cubicBezTo>
                <a:cubicBezTo>
                  <a:pt x="910" y="888"/>
                  <a:pt x="924" y="888"/>
                  <a:pt x="851" y="892"/>
                </a:cubicBezTo>
                <a:cubicBezTo>
                  <a:pt x="828" y="891"/>
                  <a:pt x="805" y="891"/>
                  <a:pt x="782" y="889"/>
                </a:cubicBezTo>
                <a:cubicBezTo>
                  <a:pt x="771" y="888"/>
                  <a:pt x="749" y="880"/>
                  <a:pt x="749" y="880"/>
                </a:cubicBezTo>
                <a:cubicBezTo>
                  <a:pt x="743" y="876"/>
                  <a:pt x="737" y="872"/>
                  <a:pt x="731" y="868"/>
                </a:cubicBezTo>
                <a:cubicBezTo>
                  <a:pt x="728" y="866"/>
                  <a:pt x="722" y="862"/>
                  <a:pt x="722" y="862"/>
                </a:cubicBezTo>
                <a:cubicBezTo>
                  <a:pt x="710" y="814"/>
                  <a:pt x="705" y="791"/>
                  <a:pt x="752" y="772"/>
                </a:cubicBezTo>
                <a:cubicBezTo>
                  <a:pt x="776" y="748"/>
                  <a:pt x="806" y="748"/>
                  <a:pt x="830" y="724"/>
                </a:cubicBezTo>
                <a:cubicBezTo>
                  <a:pt x="846" y="683"/>
                  <a:pt x="840" y="641"/>
                  <a:pt x="833" y="598"/>
                </a:cubicBezTo>
                <a:cubicBezTo>
                  <a:pt x="829" y="526"/>
                  <a:pt x="823" y="499"/>
                  <a:pt x="896" y="484"/>
                </a:cubicBezTo>
                <a:cubicBezTo>
                  <a:pt x="920" y="466"/>
                  <a:pt x="946" y="458"/>
                  <a:pt x="971" y="442"/>
                </a:cubicBezTo>
                <a:cubicBezTo>
                  <a:pt x="973" y="439"/>
                  <a:pt x="980" y="436"/>
                  <a:pt x="977" y="433"/>
                </a:cubicBezTo>
                <a:cubicBezTo>
                  <a:pt x="973" y="429"/>
                  <a:pt x="962" y="448"/>
                  <a:pt x="962" y="448"/>
                </a:cubicBezTo>
                <a:cubicBezTo>
                  <a:pt x="952" y="458"/>
                  <a:pt x="925" y="461"/>
                  <a:pt x="914" y="463"/>
                </a:cubicBezTo>
                <a:cubicBezTo>
                  <a:pt x="862" y="470"/>
                  <a:pt x="811" y="475"/>
                  <a:pt x="758" y="478"/>
                </a:cubicBezTo>
                <a:cubicBezTo>
                  <a:pt x="737" y="485"/>
                  <a:pt x="706" y="488"/>
                  <a:pt x="689" y="505"/>
                </a:cubicBezTo>
                <a:cubicBezTo>
                  <a:pt x="682" y="512"/>
                  <a:pt x="663" y="529"/>
                  <a:pt x="656" y="541"/>
                </a:cubicBezTo>
                <a:cubicBezTo>
                  <a:pt x="646" y="559"/>
                  <a:pt x="645" y="576"/>
                  <a:pt x="626" y="589"/>
                </a:cubicBezTo>
                <a:cubicBezTo>
                  <a:pt x="603" y="605"/>
                  <a:pt x="578" y="608"/>
                  <a:pt x="551" y="610"/>
                </a:cubicBezTo>
                <a:cubicBezTo>
                  <a:pt x="471" y="626"/>
                  <a:pt x="385" y="603"/>
                  <a:pt x="305" y="595"/>
                </a:cubicBezTo>
                <a:cubicBezTo>
                  <a:pt x="258" y="583"/>
                  <a:pt x="204" y="591"/>
                  <a:pt x="158" y="592"/>
                </a:cubicBezTo>
                <a:cubicBezTo>
                  <a:pt x="143" y="597"/>
                  <a:pt x="128" y="601"/>
                  <a:pt x="113" y="604"/>
                </a:cubicBezTo>
                <a:cubicBezTo>
                  <a:pt x="102" y="611"/>
                  <a:pt x="104" y="606"/>
                  <a:pt x="104" y="616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ree"/>
          <p:cNvSpPr/>
          <p:nvPr/>
        </p:nvSpPr>
        <p:spPr>
          <a:xfrm>
            <a:off x="7467480" y="3048120"/>
            <a:ext cx="990720" cy="1295280"/>
          </a:xfrm>
          <a:solidFill>
            <a:srgbClr val="008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010280" y="4876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erco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62520" y="5257800"/>
            <a:ext cx="5181480" cy="457200"/>
          </a:xfrm>
          <a:custGeom>
            <a:avLst/>
            <a:gdLst/>
            <a:ahLst/>
            <a:rect l="l" t="t" r="r" b="b"/>
            <a:pathLst>
              <a:path w="1824" h="456">
                <a:moveTo>
                  <a:pt x="0" y="456"/>
                </a:moveTo>
                <a:cubicBezTo>
                  <a:pt x="304" y="324"/>
                  <a:pt x="608" y="192"/>
                  <a:pt x="912" y="120"/>
                </a:cubicBezTo>
                <a:cubicBezTo>
                  <a:pt x="1216" y="48"/>
                  <a:pt x="1696" y="0"/>
                  <a:pt x="1824" y="24"/>
                </a:cubicBezTo>
              </a:path>
            </a:pathLst>
          </a:custGeom>
          <a:noFill/>
          <a:ln w="93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8838720" y="5105160"/>
            <a:ext cx="152640" cy="223920"/>
            <a:chOff x="8838720" y="5105160"/>
            <a:chExt cx="152640" cy="223920"/>
          </a:xfrm>
        </p:grpSpPr>
        <p:sp>
          <p:nvSpPr>
            <p:cNvPr id="215" name=""/>
            <p:cNvSpPr/>
            <p:nvPr/>
          </p:nvSpPr>
          <p:spPr>
            <a:xfrm rot="10800000">
              <a:off x="8838720" y="5105160"/>
              <a:ext cx="152280" cy="15228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839080" y="529596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839080" y="53290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4876920" y="5562720"/>
            <a:ext cx="167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Shallo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Ground Wa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924680" y="5943600"/>
            <a:ext cx="838440" cy="8380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809880" y="6019920"/>
            <a:ext cx="1447920" cy="7596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7400" y="64771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133720" y="6248520"/>
            <a:ext cx="1828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Sett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Resuspen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Diffu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705720" y="40384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534520" y="403848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581280" y="4495680"/>
            <a:ext cx="1143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Runoff and Ero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3657600" y="5181480"/>
            <a:ext cx="83808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-76320" y="510552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Rivers and Str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5638680"/>
            <a:ext cx="2514600" cy="1352520"/>
          </a:xfrm>
          <a:custGeom>
            <a:avLst/>
            <a:gdLst/>
            <a:ahLst/>
            <a:rect l="l" t="t" r="r" b="b"/>
            <a:pathLst>
              <a:path w="1639" h="1092">
                <a:moveTo>
                  <a:pt x="55" y="0"/>
                </a:moveTo>
                <a:cubicBezTo>
                  <a:pt x="228" y="173"/>
                  <a:pt x="0" y="495"/>
                  <a:pt x="215" y="656"/>
                </a:cubicBezTo>
                <a:cubicBezTo>
                  <a:pt x="273" y="648"/>
                  <a:pt x="272" y="640"/>
                  <a:pt x="319" y="624"/>
                </a:cubicBezTo>
                <a:cubicBezTo>
                  <a:pt x="340" y="627"/>
                  <a:pt x="363" y="624"/>
                  <a:pt x="383" y="632"/>
                </a:cubicBezTo>
                <a:cubicBezTo>
                  <a:pt x="406" y="641"/>
                  <a:pt x="421" y="738"/>
                  <a:pt x="423" y="744"/>
                </a:cubicBezTo>
                <a:cubicBezTo>
                  <a:pt x="434" y="790"/>
                  <a:pt x="468" y="840"/>
                  <a:pt x="503" y="872"/>
                </a:cubicBezTo>
                <a:cubicBezTo>
                  <a:pt x="564" y="927"/>
                  <a:pt x="626" y="929"/>
                  <a:pt x="703" y="944"/>
                </a:cubicBezTo>
                <a:cubicBezTo>
                  <a:pt x="881" y="980"/>
                  <a:pt x="782" y="966"/>
                  <a:pt x="999" y="976"/>
                </a:cubicBezTo>
                <a:cubicBezTo>
                  <a:pt x="1360" y="970"/>
                  <a:pt x="1438" y="1092"/>
                  <a:pt x="1487" y="848"/>
                </a:cubicBezTo>
                <a:cubicBezTo>
                  <a:pt x="1482" y="784"/>
                  <a:pt x="1482" y="711"/>
                  <a:pt x="1463" y="648"/>
                </a:cubicBezTo>
                <a:cubicBezTo>
                  <a:pt x="1459" y="634"/>
                  <a:pt x="1451" y="622"/>
                  <a:pt x="1447" y="608"/>
                </a:cubicBezTo>
                <a:cubicBezTo>
                  <a:pt x="1441" y="587"/>
                  <a:pt x="1431" y="544"/>
                  <a:pt x="1431" y="544"/>
                </a:cubicBezTo>
                <a:cubicBezTo>
                  <a:pt x="1439" y="528"/>
                  <a:pt x="1443" y="509"/>
                  <a:pt x="1455" y="496"/>
                </a:cubicBezTo>
                <a:cubicBezTo>
                  <a:pt x="1460" y="490"/>
                  <a:pt x="1530" y="449"/>
                  <a:pt x="1543" y="440"/>
                </a:cubicBezTo>
                <a:cubicBezTo>
                  <a:pt x="1605" y="337"/>
                  <a:pt x="1639" y="149"/>
                  <a:pt x="1639" y="3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6400800" y="3124080"/>
            <a:ext cx="1218960" cy="1481040"/>
            <a:chOff x="6400800" y="3124080"/>
            <a:chExt cx="1218960" cy="1481040"/>
          </a:xfrm>
        </p:grpSpPr>
        <p:sp>
          <p:nvSpPr>
            <p:cNvPr id="230" name=""/>
            <p:cNvSpPr/>
            <p:nvPr/>
          </p:nvSpPr>
          <p:spPr>
            <a:xfrm>
              <a:off x="6400800" y="3124080"/>
              <a:ext cx="1218960" cy="872640"/>
            </a:xfrm>
            <a:custGeom>
              <a:avLst/>
              <a:gdLst/>
              <a:ahLst/>
              <a:rect l="l" t="t" r="r" b="b"/>
              <a:pathLst>
                <a:path w="642" h="465">
                  <a:moveTo>
                    <a:pt x="327" y="431"/>
                  </a:moveTo>
                  <a:cubicBezTo>
                    <a:pt x="284" y="436"/>
                    <a:pt x="241" y="438"/>
                    <a:pt x="199" y="447"/>
                  </a:cubicBezTo>
                  <a:cubicBezTo>
                    <a:pt x="190" y="449"/>
                    <a:pt x="184" y="465"/>
                    <a:pt x="175" y="463"/>
                  </a:cubicBezTo>
                  <a:cubicBezTo>
                    <a:pt x="167" y="461"/>
                    <a:pt x="173" y="445"/>
                    <a:pt x="167" y="439"/>
                  </a:cubicBezTo>
                  <a:cubicBezTo>
                    <a:pt x="159" y="431"/>
                    <a:pt x="146" y="428"/>
                    <a:pt x="135" y="423"/>
                  </a:cubicBezTo>
                  <a:cubicBezTo>
                    <a:pt x="132" y="412"/>
                    <a:pt x="137" y="395"/>
                    <a:pt x="127" y="391"/>
                  </a:cubicBezTo>
                  <a:cubicBezTo>
                    <a:pt x="0" y="338"/>
                    <a:pt x="65" y="422"/>
                    <a:pt x="23" y="359"/>
                  </a:cubicBezTo>
                  <a:cubicBezTo>
                    <a:pt x="11" y="311"/>
                    <a:pt x="0" y="237"/>
                    <a:pt x="23" y="191"/>
                  </a:cubicBezTo>
                  <a:cubicBezTo>
                    <a:pt x="29" y="180"/>
                    <a:pt x="90" y="159"/>
                    <a:pt x="103" y="151"/>
                  </a:cubicBezTo>
                  <a:cubicBezTo>
                    <a:pt x="106" y="143"/>
                    <a:pt x="106" y="134"/>
                    <a:pt x="111" y="127"/>
                  </a:cubicBezTo>
                  <a:cubicBezTo>
                    <a:pt x="117" y="118"/>
                    <a:pt x="130" y="113"/>
                    <a:pt x="135" y="103"/>
                  </a:cubicBezTo>
                  <a:cubicBezTo>
                    <a:pt x="141" y="91"/>
                    <a:pt x="136" y="75"/>
                    <a:pt x="143" y="63"/>
                  </a:cubicBezTo>
                  <a:cubicBezTo>
                    <a:pt x="155" y="42"/>
                    <a:pt x="201" y="41"/>
                    <a:pt x="215" y="39"/>
                  </a:cubicBezTo>
                  <a:cubicBezTo>
                    <a:pt x="274" y="0"/>
                    <a:pt x="204" y="35"/>
                    <a:pt x="263" y="39"/>
                  </a:cubicBezTo>
                  <a:cubicBezTo>
                    <a:pt x="298" y="41"/>
                    <a:pt x="332" y="34"/>
                    <a:pt x="367" y="31"/>
                  </a:cubicBezTo>
                  <a:cubicBezTo>
                    <a:pt x="432" y="18"/>
                    <a:pt x="403" y="41"/>
                    <a:pt x="455" y="47"/>
                  </a:cubicBezTo>
                  <a:cubicBezTo>
                    <a:pt x="490" y="51"/>
                    <a:pt x="524" y="52"/>
                    <a:pt x="559" y="55"/>
                  </a:cubicBezTo>
                  <a:cubicBezTo>
                    <a:pt x="587" y="140"/>
                    <a:pt x="568" y="107"/>
                    <a:pt x="607" y="159"/>
                  </a:cubicBezTo>
                  <a:cubicBezTo>
                    <a:pt x="617" y="220"/>
                    <a:pt x="642" y="247"/>
                    <a:pt x="583" y="287"/>
                  </a:cubicBezTo>
                  <a:cubicBezTo>
                    <a:pt x="580" y="303"/>
                    <a:pt x="584" y="322"/>
                    <a:pt x="575" y="335"/>
                  </a:cubicBezTo>
                  <a:cubicBezTo>
                    <a:pt x="569" y="344"/>
                    <a:pt x="553" y="338"/>
                    <a:pt x="543" y="343"/>
                  </a:cubicBezTo>
                  <a:cubicBezTo>
                    <a:pt x="458" y="392"/>
                    <a:pt x="582" y="348"/>
                    <a:pt x="487" y="375"/>
                  </a:cubicBezTo>
                  <a:cubicBezTo>
                    <a:pt x="461" y="383"/>
                    <a:pt x="415" y="415"/>
                    <a:pt x="415" y="415"/>
                  </a:cubicBezTo>
                  <a:cubicBezTo>
                    <a:pt x="410" y="407"/>
                    <a:pt x="402" y="400"/>
                    <a:pt x="399" y="391"/>
                  </a:cubicBezTo>
                  <a:cubicBezTo>
                    <a:pt x="382" y="345"/>
                    <a:pt x="409" y="345"/>
                    <a:pt x="367" y="359"/>
                  </a:cubicBezTo>
                  <a:cubicBezTo>
                    <a:pt x="332" y="307"/>
                    <a:pt x="369" y="307"/>
                    <a:pt x="295" y="319"/>
                  </a:cubicBezTo>
                  <a:cubicBezTo>
                    <a:pt x="315" y="379"/>
                    <a:pt x="299" y="308"/>
                    <a:pt x="263" y="335"/>
                  </a:cubicBezTo>
                  <a:cubicBezTo>
                    <a:pt x="254" y="342"/>
                    <a:pt x="267" y="357"/>
                    <a:pt x="271" y="367"/>
                  </a:cubicBezTo>
                  <a:cubicBezTo>
                    <a:pt x="283" y="395"/>
                    <a:pt x="310" y="406"/>
                    <a:pt x="327" y="431"/>
                  </a:cubicBez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5400000">
              <a:off x="6522480" y="3661920"/>
              <a:ext cx="1107720" cy="778320"/>
            </a:xfrm>
            <a:custGeom>
              <a:avLst/>
              <a:gdLst/>
              <a:ahLst/>
              <a:rect l="l" t="t" r="r" b="b"/>
              <a:pathLst>
                <a:path w="926" h="458">
                  <a:moveTo>
                    <a:pt x="840" y="338"/>
                  </a:moveTo>
                  <a:cubicBezTo>
                    <a:pt x="816" y="266"/>
                    <a:pt x="775" y="271"/>
                    <a:pt x="712" y="250"/>
                  </a:cubicBezTo>
                  <a:cubicBezTo>
                    <a:pt x="554" y="254"/>
                    <a:pt x="478" y="243"/>
                    <a:pt x="352" y="274"/>
                  </a:cubicBezTo>
                  <a:cubicBezTo>
                    <a:pt x="328" y="290"/>
                    <a:pt x="304" y="306"/>
                    <a:pt x="280" y="322"/>
                  </a:cubicBezTo>
                  <a:cubicBezTo>
                    <a:pt x="272" y="327"/>
                    <a:pt x="256" y="338"/>
                    <a:pt x="256" y="338"/>
                  </a:cubicBezTo>
                  <a:cubicBezTo>
                    <a:pt x="238" y="366"/>
                    <a:pt x="220" y="384"/>
                    <a:pt x="192" y="402"/>
                  </a:cubicBezTo>
                  <a:cubicBezTo>
                    <a:pt x="173" y="431"/>
                    <a:pt x="155" y="429"/>
                    <a:pt x="136" y="458"/>
                  </a:cubicBezTo>
                  <a:cubicBezTo>
                    <a:pt x="107" y="414"/>
                    <a:pt x="131" y="393"/>
                    <a:pt x="176" y="378"/>
                  </a:cubicBezTo>
                  <a:cubicBezTo>
                    <a:pt x="205" y="349"/>
                    <a:pt x="210" y="315"/>
                    <a:pt x="232" y="282"/>
                  </a:cubicBezTo>
                  <a:cubicBezTo>
                    <a:pt x="191" y="268"/>
                    <a:pt x="152" y="277"/>
                    <a:pt x="112" y="290"/>
                  </a:cubicBezTo>
                  <a:cubicBezTo>
                    <a:pt x="73" y="284"/>
                    <a:pt x="38" y="274"/>
                    <a:pt x="0" y="266"/>
                  </a:cubicBezTo>
                  <a:cubicBezTo>
                    <a:pt x="71" y="219"/>
                    <a:pt x="176" y="231"/>
                    <a:pt x="256" y="226"/>
                  </a:cubicBezTo>
                  <a:cubicBezTo>
                    <a:pt x="228" y="198"/>
                    <a:pt x="219" y="184"/>
                    <a:pt x="208" y="146"/>
                  </a:cubicBezTo>
                  <a:cubicBezTo>
                    <a:pt x="206" y="138"/>
                    <a:pt x="192" y="126"/>
                    <a:pt x="200" y="122"/>
                  </a:cubicBezTo>
                  <a:cubicBezTo>
                    <a:pt x="209" y="118"/>
                    <a:pt x="216" y="133"/>
                    <a:pt x="224" y="138"/>
                  </a:cubicBezTo>
                  <a:cubicBezTo>
                    <a:pt x="245" y="170"/>
                    <a:pt x="259" y="169"/>
                    <a:pt x="296" y="178"/>
                  </a:cubicBezTo>
                  <a:cubicBezTo>
                    <a:pt x="323" y="175"/>
                    <a:pt x="352" y="181"/>
                    <a:pt x="376" y="170"/>
                  </a:cubicBezTo>
                  <a:cubicBezTo>
                    <a:pt x="384" y="167"/>
                    <a:pt x="372" y="154"/>
                    <a:pt x="368" y="146"/>
                  </a:cubicBezTo>
                  <a:cubicBezTo>
                    <a:pt x="360" y="129"/>
                    <a:pt x="286" y="0"/>
                    <a:pt x="360" y="74"/>
                  </a:cubicBezTo>
                  <a:cubicBezTo>
                    <a:pt x="382" y="139"/>
                    <a:pt x="388" y="163"/>
                    <a:pt x="464" y="178"/>
                  </a:cubicBezTo>
                  <a:cubicBezTo>
                    <a:pt x="555" y="175"/>
                    <a:pt x="647" y="187"/>
                    <a:pt x="736" y="170"/>
                  </a:cubicBezTo>
                  <a:cubicBezTo>
                    <a:pt x="736" y="170"/>
                    <a:pt x="756" y="110"/>
                    <a:pt x="760" y="98"/>
                  </a:cubicBezTo>
                  <a:cubicBezTo>
                    <a:pt x="770" y="68"/>
                    <a:pt x="816" y="64"/>
                    <a:pt x="840" y="58"/>
                  </a:cubicBezTo>
                  <a:cubicBezTo>
                    <a:pt x="785" y="95"/>
                    <a:pt x="798" y="72"/>
                    <a:pt x="784" y="114"/>
                  </a:cubicBezTo>
                  <a:cubicBezTo>
                    <a:pt x="787" y="130"/>
                    <a:pt x="779" y="153"/>
                    <a:pt x="792" y="162"/>
                  </a:cubicBezTo>
                  <a:cubicBezTo>
                    <a:pt x="820" y="182"/>
                    <a:pt x="888" y="122"/>
                    <a:pt x="888" y="122"/>
                  </a:cubicBezTo>
                  <a:cubicBezTo>
                    <a:pt x="896" y="125"/>
                    <a:pt x="910" y="122"/>
                    <a:pt x="912" y="130"/>
                  </a:cubicBezTo>
                  <a:cubicBezTo>
                    <a:pt x="926" y="179"/>
                    <a:pt x="889" y="191"/>
                    <a:pt x="856" y="202"/>
                  </a:cubicBezTo>
                  <a:cubicBezTo>
                    <a:pt x="833" y="270"/>
                    <a:pt x="892" y="318"/>
                    <a:pt x="912" y="378"/>
                  </a:cubicBezTo>
                  <a:cubicBezTo>
                    <a:pt x="909" y="394"/>
                    <a:pt x="917" y="416"/>
                    <a:pt x="904" y="426"/>
                  </a:cubicBezTo>
                  <a:cubicBezTo>
                    <a:pt x="895" y="433"/>
                    <a:pt x="887" y="411"/>
                    <a:pt x="880" y="402"/>
                  </a:cubicBezTo>
                  <a:cubicBezTo>
                    <a:pt x="855" y="370"/>
                    <a:pt x="853" y="365"/>
                    <a:pt x="840" y="338"/>
                  </a:cubicBez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8001000" y="6324480"/>
            <a:ext cx="450720" cy="417600"/>
          </a:xfrm>
          <a:custGeom>
            <a:avLst/>
            <a:gdLst/>
            <a:ahLst/>
            <a:rect l="l" t="t" r="r" b="b"/>
            <a:pathLst>
              <a:path w="386" h="372">
                <a:moveTo>
                  <a:pt x="0" y="53"/>
                </a:moveTo>
                <a:cubicBezTo>
                  <a:pt x="51" y="43"/>
                  <a:pt x="102" y="34"/>
                  <a:pt x="153" y="25"/>
                </a:cubicBezTo>
                <a:cubicBezTo>
                  <a:pt x="312" y="38"/>
                  <a:pt x="182" y="0"/>
                  <a:pt x="243" y="137"/>
                </a:cubicBezTo>
                <a:cubicBezTo>
                  <a:pt x="252" y="158"/>
                  <a:pt x="289" y="144"/>
                  <a:pt x="312" y="150"/>
                </a:cubicBezTo>
                <a:cubicBezTo>
                  <a:pt x="354" y="178"/>
                  <a:pt x="317" y="180"/>
                  <a:pt x="375" y="192"/>
                </a:cubicBezTo>
                <a:cubicBezTo>
                  <a:pt x="386" y="246"/>
                  <a:pt x="367" y="299"/>
                  <a:pt x="354" y="352"/>
                </a:cubicBezTo>
                <a:cubicBezTo>
                  <a:pt x="351" y="363"/>
                  <a:pt x="335" y="365"/>
                  <a:pt x="326" y="372"/>
                </a:cubicBezTo>
                <a:cubicBezTo>
                  <a:pt x="247" y="366"/>
                  <a:pt x="225" y="365"/>
                  <a:pt x="160" y="331"/>
                </a:cubicBezTo>
                <a:cubicBezTo>
                  <a:pt x="147" y="314"/>
                  <a:pt x="130" y="300"/>
                  <a:pt x="118" y="282"/>
                </a:cubicBezTo>
                <a:cubicBezTo>
                  <a:pt x="114" y="276"/>
                  <a:pt x="114" y="268"/>
                  <a:pt x="111" y="261"/>
                </a:cubicBezTo>
                <a:cubicBezTo>
                  <a:pt x="107" y="254"/>
                  <a:pt x="102" y="248"/>
                  <a:pt x="97" y="241"/>
                </a:cubicBezTo>
                <a:cubicBezTo>
                  <a:pt x="83" y="200"/>
                  <a:pt x="66" y="160"/>
                  <a:pt x="28" y="137"/>
                </a:cubicBezTo>
                <a:cubicBezTo>
                  <a:pt x="2" y="98"/>
                  <a:pt x="16" y="124"/>
                  <a:pt x="0" y="53"/>
                </a:cubicBez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8305920" y="6248520"/>
            <a:ext cx="187200" cy="24120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400800" y="6553080"/>
            <a:ext cx="15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Weath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400800" y="5791320"/>
            <a:ext cx="168120" cy="161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513480" y="5791320"/>
            <a:ext cx="1681200" cy="16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456240" y="5952960"/>
            <a:ext cx="1625760" cy="752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8991720" y="36576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276400" y="3200400"/>
            <a:ext cx="86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Eva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-76320" y="4495680"/>
            <a:ext cx="2133720" cy="1143000"/>
          </a:xfrm>
          <a:custGeom>
            <a:avLst/>
            <a:gdLst/>
            <a:ahLst/>
            <a:rect l="l" t="t" r="r" b="b"/>
            <a:pathLst>
              <a:path w="1197" h="560">
                <a:moveTo>
                  <a:pt x="49" y="0"/>
                </a:moveTo>
                <a:cubicBezTo>
                  <a:pt x="233" y="74"/>
                  <a:pt x="447" y="69"/>
                  <a:pt x="641" y="80"/>
                </a:cubicBezTo>
                <a:cubicBezTo>
                  <a:pt x="657" y="83"/>
                  <a:pt x="673" y="85"/>
                  <a:pt x="689" y="88"/>
                </a:cubicBezTo>
                <a:cubicBezTo>
                  <a:pt x="716" y="93"/>
                  <a:pt x="769" y="104"/>
                  <a:pt x="769" y="104"/>
                </a:cubicBezTo>
                <a:cubicBezTo>
                  <a:pt x="799" y="134"/>
                  <a:pt x="825" y="152"/>
                  <a:pt x="801" y="200"/>
                </a:cubicBezTo>
                <a:cubicBezTo>
                  <a:pt x="797" y="209"/>
                  <a:pt x="784" y="210"/>
                  <a:pt x="777" y="216"/>
                </a:cubicBezTo>
                <a:cubicBezTo>
                  <a:pt x="751" y="237"/>
                  <a:pt x="738" y="255"/>
                  <a:pt x="705" y="264"/>
                </a:cubicBezTo>
                <a:cubicBezTo>
                  <a:pt x="684" y="270"/>
                  <a:pt x="641" y="280"/>
                  <a:pt x="641" y="280"/>
                </a:cubicBezTo>
                <a:cubicBezTo>
                  <a:pt x="608" y="302"/>
                  <a:pt x="606" y="330"/>
                  <a:pt x="649" y="344"/>
                </a:cubicBezTo>
                <a:cubicBezTo>
                  <a:pt x="762" y="382"/>
                  <a:pt x="887" y="361"/>
                  <a:pt x="1001" y="392"/>
                </a:cubicBezTo>
                <a:cubicBezTo>
                  <a:pt x="1025" y="399"/>
                  <a:pt x="1052" y="402"/>
                  <a:pt x="1073" y="416"/>
                </a:cubicBezTo>
                <a:cubicBezTo>
                  <a:pt x="1089" y="427"/>
                  <a:pt x="1105" y="437"/>
                  <a:pt x="1121" y="448"/>
                </a:cubicBezTo>
                <a:cubicBezTo>
                  <a:pt x="1129" y="453"/>
                  <a:pt x="1145" y="464"/>
                  <a:pt x="1145" y="464"/>
                </a:cubicBezTo>
                <a:cubicBezTo>
                  <a:pt x="1197" y="542"/>
                  <a:pt x="1143" y="528"/>
                  <a:pt x="1065" y="536"/>
                </a:cubicBezTo>
                <a:cubicBezTo>
                  <a:pt x="1049" y="541"/>
                  <a:pt x="1033" y="547"/>
                  <a:pt x="1017" y="552"/>
                </a:cubicBezTo>
                <a:cubicBezTo>
                  <a:pt x="1009" y="555"/>
                  <a:pt x="993" y="560"/>
                  <a:pt x="993" y="560"/>
                </a:cubicBezTo>
                <a:cubicBezTo>
                  <a:pt x="966" y="533"/>
                  <a:pt x="957" y="484"/>
                  <a:pt x="921" y="464"/>
                </a:cubicBezTo>
                <a:cubicBezTo>
                  <a:pt x="862" y="431"/>
                  <a:pt x="763" y="436"/>
                  <a:pt x="705" y="432"/>
                </a:cubicBezTo>
                <a:cubicBezTo>
                  <a:pt x="662" y="426"/>
                  <a:pt x="620" y="413"/>
                  <a:pt x="577" y="408"/>
                </a:cubicBezTo>
                <a:cubicBezTo>
                  <a:pt x="517" y="401"/>
                  <a:pt x="460" y="399"/>
                  <a:pt x="401" y="384"/>
                </a:cubicBezTo>
                <a:cubicBezTo>
                  <a:pt x="404" y="355"/>
                  <a:pt x="400" y="324"/>
                  <a:pt x="409" y="296"/>
                </a:cubicBezTo>
                <a:cubicBezTo>
                  <a:pt x="416" y="273"/>
                  <a:pt x="543" y="259"/>
                  <a:pt x="561" y="256"/>
                </a:cubicBezTo>
                <a:cubicBezTo>
                  <a:pt x="566" y="248"/>
                  <a:pt x="579" y="241"/>
                  <a:pt x="577" y="232"/>
                </a:cubicBezTo>
                <a:cubicBezTo>
                  <a:pt x="575" y="224"/>
                  <a:pt x="561" y="224"/>
                  <a:pt x="553" y="224"/>
                </a:cubicBezTo>
                <a:cubicBezTo>
                  <a:pt x="396" y="215"/>
                  <a:pt x="238" y="214"/>
                  <a:pt x="81" y="208"/>
                </a:cubicBezTo>
                <a:cubicBezTo>
                  <a:pt x="68" y="205"/>
                  <a:pt x="53" y="207"/>
                  <a:pt x="41" y="200"/>
                </a:cubicBezTo>
                <a:cubicBezTo>
                  <a:pt x="0" y="177"/>
                  <a:pt x="41" y="47"/>
                  <a:pt x="49" y="0"/>
                </a:cubicBez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-66600" y="5638680"/>
            <a:ext cx="1971720" cy="1016280"/>
          </a:xfrm>
          <a:custGeom>
            <a:avLst/>
            <a:gdLst/>
            <a:ahLst/>
            <a:rect l="l" t="t" r="r" b="b"/>
            <a:pathLst>
              <a:path w="1185" h="944">
                <a:moveTo>
                  <a:pt x="914" y="0"/>
                </a:moveTo>
                <a:cubicBezTo>
                  <a:pt x="886" y="83"/>
                  <a:pt x="836" y="117"/>
                  <a:pt x="754" y="144"/>
                </a:cubicBezTo>
                <a:cubicBezTo>
                  <a:pt x="707" y="191"/>
                  <a:pt x="721" y="214"/>
                  <a:pt x="754" y="264"/>
                </a:cubicBezTo>
                <a:cubicBezTo>
                  <a:pt x="751" y="291"/>
                  <a:pt x="755" y="319"/>
                  <a:pt x="746" y="344"/>
                </a:cubicBezTo>
                <a:cubicBezTo>
                  <a:pt x="734" y="377"/>
                  <a:pt x="692" y="383"/>
                  <a:pt x="666" y="392"/>
                </a:cubicBezTo>
                <a:cubicBezTo>
                  <a:pt x="550" y="431"/>
                  <a:pt x="662" y="391"/>
                  <a:pt x="570" y="416"/>
                </a:cubicBezTo>
                <a:cubicBezTo>
                  <a:pt x="536" y="425"/>
                  <a:pt x="500" y="451"/>
                  <a:pt x="466" y="456"/>
                </a:cubicBezTo>
                <a:cubicBezTo>
                  <a:pt x="440" y="460"/>
                  <a:pt x="413" y="461"/>
                  <a:pt x="386" y="464"/>
                </a:cubicBezTo>
                <a:cubicBezTo>
                  <a:pt x="368" y="470"/>
                  <a:pt x="338" y="475"/>
                  <a:pt x="338" y="504"/>
                </a:cubicBezTo>
                <a:cubicBezTo>
                  <a:pt x="338" y="515"/>
                  <a:pt x="354" y="520"/>
                  <a:pt x="362" y="528"/>
                </a:cubicBezTo>
                <a:cubicBezTo>
                  <a:pt x="359" y="560"/>
                  <a:pt x="360" y="593"/>
                  <a:pt x="354" y="624"/>
                </a:cubicBezTo>
                <a:cubicBezTo>
                  <a:pt x="348" y="653"/>
                  <a:pt x="304" y="667"/>
                  <a:pt x="282" y="680"/>
                </a:cubicBezTo>
                <a:cubicBezTo>
                  <a:pt x="194" y="730"/>
                  <a:pt x="120" y="745"/>
                  <a:pt x="18" y="752"/>
                </a:cubicBezTo>
                <a:cubicBezTo>
                  <a:pt x="13" y="760"/>
                  <a:pt x="3" y="766"/>
                  <a:pt x="2" y="776"/>
                </a:cubicBezTo>
                <a:cubicBezTo>
                  <a:pt x="0" y="791"/>
                  <a:pt x="25" y="933"/>
                  <a:pt x="26" y="944"/>
                </a:cubicBezTo>
                <a:cubicBezTo>
                  <a:pt x="80" y="926"/>
                  <a:pt x="139" y="918"/>
                  <a:pt x="194" y="904"/>
                </a:cubicBezTo>
                <a:cubicBezTo>
                  <a:pt x="235" y="876"/>
                  <a:pt x="290" y="868"/>
                  <a:pt x="338" y="856"/>
                </a:cubicBezTo>
                <a:cubicBezTo>
                  <a:pt x="349" y="853"/>
                  <a:pt x="370" y="848"/>
                  <a:pt x="370" y="848"/>
                </a:cubicBezTo>
                <a:cubicBezTo>
                  <a:pt x="399" y="805"/>
                  <a:pt x="453" y="791"/>
                  <a:pt x="498" y="768"/>
                </a:cubicBezTo>
                <a:cubicBezTo>
                  <a:pt x="522" y="732"/>
                  <a:pt x="540" y="705"/>
                  <a:pt x="554" y="664"/>
                </a:cubicBezTo>
                <a:cubicBezTo>
                  <a:pt x="557" y="624"/>
                  <a:pt x="553" y="583"/>
                  <a:pt x="562" y="544"/>
                </a:cubicBezTo>
                <a:cubicBezTo>
                  <a:pt x="569" y="514"/>
                  <a:pt x="701" y="505"/>
                  <a:pt x="714" y="504"/>
                </a:cubicBezTo>
                <a:cubicBezTo>
                  <a:pt x="749" y="492"/>
                  <a:pt x="782" y="481"/>
                  <a:pt x="818" y="472"/>
                </a:cubicBezTo>
                <a:cubicBezTo>
                  <a:pt x="874" y="435"/>
                  <a:pt x="855" y="456"/>
                  <a:pt x="882" y="416"/>
                </a:cubicBezTo>
                <a:cubicBezTo>
                  <a:pt x="894" y="370"/>
                  <a:pt x="891" y="249"/>
                  <a:pt x="930" y="216"/>
                </a:cubicBezTo>
                <a:cubicBezTo>
                  <a:pt x="956" y="193"/>
                  <a:pt x="989" y="179"/>
                  <a:pt x="1018" y="160"/>
                </a:cubicBezTo>
                <a:cubicBezTo>
                  <a:pt x="1070" y="125"/>
                  <a:pt x="1126" y="99"/>
                  <a:pt x="1178" y="64"/>
                </a:cubicBezTo>
                <a:cubicBezTo>
                  <a:pt x="1185" y="59"/>
                  <a:pt x="1162" y="69"/>
                  <a:pt x="1154" y="72"/>
                </a:cubicBezTo>
                <a:cubicBezTo>
                  <a:pt x="1095" y="13"/>
                  <a:pt x="990" y="17"/>
                  <a:pt x="914" y="0"/>
                </a:cubicBez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447920" y="5562720"/>
            <a:ext cx="2514600" cy="22860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151920" y="5943600"/>
            <a:ext cx="83844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5410080"/>
            <a:ext cx="761760" cy="15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181480" y="403848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Litterfall and Throughf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gII Transformation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991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hylation: HgII to MeH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ant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 phase switches (1 for diss, sorb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mperature correction factors (2.0 per 10 C change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ield coefficient (1.0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ameter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ylation rate constants for water column and benthic seg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.g., 1e-5 to 1e-2 day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eHg Transformation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toreduction: MeHg to Hg(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Hg Constant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 photolysis option (2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ntum yield coefficients (1 for diss, sorb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ield coefficient (0.93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rface rate constant (e.g., 1e-3 to 1e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ameter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ter light attenuation coefficients for water column seg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e.g., 0.5-2 m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eHg Transformation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cterial Demethylation: MeHg to Hg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ant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 phase switches (1 for diss, sorb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mperature correction factors (10 kcal/mole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ield coefficient (0.9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ameter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ter demethylation rate constants for benthic segments (e.g., 1e-5 to 1e-2 day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0" y="1325520"/>
            <a:ext cx="9143640" cy="5544720"/>
            <a:chOff x="0" y="1325520"/>
            <a:chExt cx="9143640" cy="5544720"/>
          </a:xfrm>
        </p:grpSpPr>
        <p:sp>
          <p:nvSpPr>
            <p:cNvPr id="346" name=""/>
            <p:cNvSpPr/>
            <p:nvPr/>
          </p:nvSpPr>
          <p:spPr>
            <a:xfrm>
              <a:off x="2859840" y="3295080"/>
              <a:ext cx="889920" cy="73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2040840" y="1755000"/>
              <a:ext cx="4680" cy="105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901800" y="2814480"/>
              <a:ext cx="1301760" cy="634680"/>
            </a:xfrm>
            <a:prstGeom prst="rect">
              <a:avLst/>
            </a:prstGeom>
            <a:solidFill>
              <a:srgbClr val="808080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gII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in Soi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424320" y="4037040"/>
              <a:ext cx="2440800" cy="325440"/>
            </a:xfrm>
            <a:prstGeom prst="rect">
              <a:avLst/>
            </a:prstGeom>
            <a:solidFill>
              <a:srgbClr val="808080">
                <a:alpha val="1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ributari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03560" y="3466440"/>
              <a:ext cx="1220400" cy="57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1627560" y="2170440"/>
              <a:ext cx="0" cy="63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60600" y="2257560"/>
              <a:ext cx="903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duction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va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793520" y="1325520"/>
              <a:ext cx="496332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tmospheric Wet and Dry Deposi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5133240" y="3710520"/>
              <a:ext cx="0" cy="32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171400" y="3466440"/>
              <a:ext cx="1130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duction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volatiliz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203560" y="2570040"/>
              <a:ext cx="1383120" cy="642600"/>
            </a:xfrm>
            <a:prstGeom prst="rect">
              <a:avLst/>
            </a:prstGeom>
            <a:solidFill>
              <a:srgbClr val="808080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mpervious Surf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6516360" y="1755000"/>
              <a:ext cx="5040" cy="309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4075200" y="3042000"/>
              <a:ext cx="5040" cy="99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726440" y="4362840"/>
              <a:ext cx="732240" cy="48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143920" y="5340600"/>
              <a:ext cx="56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7719840" y="4443840"/>
              <a:ext cx="10080" cy="40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2935800" y="1755000"/>
              <a:ext cx="4680" cy="81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574040" y="5885640"/>
              <a:ext cx="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14960" y="4096080"/>
              <a:ext cx="146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olatiliz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836840" y="5383440"/>
              <a:ext cx="130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xpo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856320" y="4362840"/>
              <a:ext cx="1200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xpo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5265360" y="5874840"/>
              <a:ext cx="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587040" y="2325600"/>
              <a:ext cx="1220400" cy="642600"/>
            </a:xfrm>
            <a:prstGeom prst="rect">
              <a:avLst/>
            </a:prstGeom>
            <a:solidFill>
              <a:srgbClr val="808080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ater Surf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4080240" y="1755000"/>
              <a:ext cx="4680" cy="57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697120" y="3466440"/>
              <a:ext cx="122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unof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720960" y="3140280"/>
              <a:ext cx="122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xpo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883520" y="3792600"/>
              <a:ext cx="1301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unoff and ero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3" name=""/>
            <p:cNvGrpSpPr/>
            <p:nvPr/>
          </p:nvGrpSpPr>
          <p:grpSpPr>
            <a:xfrm>
              <a:off x="4800960" y="4851720"/>
              <a:ext cx="3335400" cy="1629720"/>
              <a:chOff x="4800960" y="4851720"/>
              <a:chExt cx="3335400" cy="1629720"/>
            </a:xfrm>
          </p:grpSpPr>
          <p:sp>
            <p:nvSpPr>
              <p:cNvPr id="374" name=""/>
              <p:cNvSpPr/>
              <p:nvPr/>
            </p:nvSpPr>
            <p:spPr>
              <a:xfrm>
                <a:off x="4800960" y="5992560"/>
                <a:ext cx="3335400" cy="488880"/>
              </a:xfrm>
              <a:prstGeom prst="rect">
                <a:avLst/>
              </a:prstGeom>
              <a:solidFill>
                <a:srgbClr val="808080">
                  <a:alpha val="25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sediment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lay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5" name=""/>
              <p:cNvGrpSpPr/>
              <p:nvPr/>
            </p:nvGrpSpPr>
            <p:grpSpPr>
              <a:xfrm>
                <a:off x="4800960" y="4851720"/>
                <a:ext cx="3335040" cy="1140480"/>
                <a:chOff x="4800960" y="4851720"/>
                <a:chExt cx="3335040" cy="114048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4800960" y="4851720"/>
                  <a:ext cx="3335040" cy="1140480"/>
                </a:xfrm>
                <a:prstGeom prst="rect">
                  <a:avLst/>
                </a:prstGeom>
                <a:solidFill>
                  <a:srgbClr val="808080">
                    <a:alpha val="15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MeHg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         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Hg(II)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Hg</a:t>
                  </a:r>
                  <a:r>
                    <a:rPr b="1" lang="en-US" sz="20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Silt 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      water column      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Sand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77" name=""/>
                <p:cNvGrpSpPr/>
                <p:nvPr/>
              </p:nvGrpSpPr>
              <p:grpSpPr>
                <a:xfrm>
                  <a:off x="5550480" y="5300280"/>
                  <a:ext cx="596880" cy="336240"/>
                  <a:chOff x="5550480" y="5300280"/>
                  <a:chExt cx="596880" cy="336240"/>
                </a:xfrm>
              </p:grpSpPr>
              <p:grpSp>
                <p:nvGrpSpPr>
                  <p:cNvPr id="378" name=""/>
                  <p:cNvGrpSpPr/>
                  <p:nvPr/>
                </p:nvGrpSpPr>
                <p:grpSpPr>
                  <a:xfrm>
                    <a:off x="5550480" y="5300280"/>
                    <a:ext cx="578160" cy="301320"/>
                    <a:chOff x="5550480" y="5300280"/>
                    <a:chExt cx="578160" cy="301320"/>
                  </a:xfrm>
                </p:grpSpPr>
                <p:sp>
                  <p:nvSpPr>
                    <p:cNvPr id="379" name=""/>
                    <p:cNvSpPr/>
                    <p:nvPr/>
                  </p:nvSpPr>
                  <p:spPr>
                    <a:xfrm flipH="1">
                      <a:off x="5550480" y="5300280"/>
                      <a:ext cx="578160" cy="301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"/>
                    <p:cNvSpPr/>
                    <p:nvPr/>
                  </p:nvSpPr>
                  <p:spPr>
                    <a:xfrm flipV="1">
                      <a:off x="5550480" y="5546160"/>
                      <a:ext cx="63000" cy="55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280" bIns="8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1" name=""/>
                  <p:cNvGrpSpPr/>
                  <p:nvPr/>
                </p:nvGrpSpPr>
                <p:grpSpPr>
                  <a:xfrm>
                    <a:off x="5569200" y="5335200"/>
                    <a:ext cx="578160" cy="301320"/>
                    <a:chOff x="5569200" y="5335200"/>
                    <a:chExt cx="578160" cy="301320"/>
                  </a:xfrm>
                </p:grpSpPr>
                <p:sp>
                  <p:nvSpPr>
                    <p:cNvPr id="382" name=""/>
                    <p:cNvSpPr/>
                    <p:nvPr/>
                  </p:nvSpPr>
                  <p:spPr>
                    <a:xfrm flipV="1">
                      <a:off x="5569200" y="5335200"/>
                      <a:ext cx="578160" cy="301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"/>
                    <p:cNvSpPr/>
                    <p:nvPr/>
                  </p:nvSpPr>
                  <p:spPr>
                    <a:xfrm flipH="1">
                      <a:off x="6084360" y="5335560"/>
                      <a:ext cx="63000" cy="55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280" bIns="8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84" name=""/>
                <p:cNvGrpSpPr/>
                <p:nvPr/>
              </p:nvGrpSpPr>
              <p:grpSpPr>
                <a:xfrm>
                  <a:off x="5207400" y="5268600"/>
                  <a:ext cx="81360" cy="326160"/>
                  <a:chOff x="5207400" y="5268600"/>
                  <a:chExt cx="81360" cy="326160"/>
                </a:xfrm>
              </p:grpSpPr>
              <p:grpSp>
                <p:nvGrpSpPr>
                  <p:cNvPr id="385" name=""/>
                  <p:cNvGrpSpPr/>
                  <p:nvPr/>
                </p:nvGrpSpPr>
                <p:grpSpPr>
                  <a:xfrm>
                    <a:off x="5207400" y="5268960"/>
                    <a:ext cx="20160" cy="325800"/>
                    <a:chOff x="5207400" y="5268960"/>
                    <a:chExt cx="20160" cy="325800"/>
                  </a:xfrm>
                </p:grpSpPr>
                <p:sp>
                  <p:nvSpPr>
                    <p:cNvPr id="386" name=""/>
                    <p:cNvSpPr/>
                    <p:nvPr/>
                  </p:nvSpPr>
                  <p:spPr>
                    <a:xfrm>
                      <a:off x="5227560" y="5268960"/>
                      <a:ext cx="0" cy="325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"/>
                    <p:cNvSpPr/>
                    <p:nvPr/>
                  </p:nvSpPr>
                  <p:spPr>
                    <a:xfrm flipH="1" flipV="1">
                      <a:off x="5207400" y="5553720"/>
                      <a:ext cx="20160" cy="406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8" name=""/>
                  <p:cNvGrpSpPr/>
                  <p:nvPr/>
                </p:nvGrpSpPr>
                <p:grpSpPr>
                  <a:xfrm>
                    <a:off x="5268600" y="5268600"/>
                    <a:ext cx="20160" cy="325800"/>
                    <a:chOff x="5268600" y="5268600"/>
                    <a:chExt cx="20160" cy="325800"/>
                  </a:xfrm>
                </p:grpSpPr>
                <p:sp>
                  <p:nvSpPr>
                    <p:cNvPr id="389" name=""/>
                    <p:cNvSpPr/>
                    <p:nvPr/>
                  </p:nvSpPr>
                  <p:spPr>
                    <a:xfrm flipV="1">
                      <a:off x="5268600" y="5268600"/>
                      <a:ext cx="0" cy="325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5268600" y="5268960"/>
                      <a:ext cx="20160" cy="406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91" name=""/>
                <p:cNvGrpSpPr/>
                <p:nvPr/>
              </p:nvGrpSpPr>
              <p:grpSpPr>
                <a:xfrm>
                  <a:off x="5589000" y="5131440"/>
                  <a:ext cx="594000" cy="45360"/>
                  <a:chOff x="5589000" y="5131440"/>
                  <a:chExt cx="594000" cy="45360"/>
                </a:xfrm>
              </p:grpSpPr>
              <p:sp>
                <p:nvSpPr>
                  <p:cNvPr id="392" name=""/>
                  <p:cNvSpPr/>
                  <p:nvPr/>
                </p:nvSpPr>
                <p:spPr>
                  <a:xfrm>
                    <a:off x="5589000" y="5131440"/>
                    <a:ext cx="568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med" type="arrow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5614200" y="5176800"/>
                    <a:ext cx="568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arrow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4" name=""/>
                <p:cNvGrpSpPr/>
                <p:nvPr/>
              </p:nvGrpSpPr>
              <p:grpSpPr>
                <a:xfrm>
                  <a:off x="7017840" y="5126400"/>
                  <a:ext cx="594360" cy="45360"/>
                  <a:chOff x="7017840" y="5126400"/>
                  <a:chExt cx="594360" cy="45360"/>
                </a:xfrm>
              </p:grpSpPr>
              <p:sp>
                <p:nvSpPr>
                  <p:cNvPr id="395" name=""/>
                  <p:cNvSpPr/>
                  <p:nvPr/>
                </p:nvSpPr>
                <p:spPr>
                  <a:xfrm>
                    <a:off x="7017840" y="5126400"/>
                    <a:ext cx="569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med" type="arrow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7043040" y="5171760"/>
                    <a:ext cx="569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arrow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97" name=""/>
            <p:cNvSpPr/>
            <p:nvPr/>
          </p:nvSpPr>
          <p:spPr>
            <a:xfrm>
              <a:off x="0" y="4281480"/>
              <a:ext cx="2278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C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atershed Mod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32240" y="5062320"/>
              <a:ext cx="2196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ributary Mod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07080" y="5872320"/>
              <a:ext cx="3335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asp5/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ater Body Mod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3661560" y="5748480"/>
              <a:ext cx="813600" cy="325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2522520" y="4525560"/>
              <a:ext cx="813600" cy="733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1545840" y="3873600"/>
              <a:ext cx="325440" cy="5702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6467040" y="6481800"/>
              <a:ext cx="813240" cy="388440"/>
              <a:chOff x="6467040" y="6481800"/>
              <a:chExt cx="813240" cy="388440"/>
            </a:xfrm>
          </p:grpSpPr>
          <p:sp>
            <p:nvSpPr>
              <p:cNvPr id="404" name=""/>
              <p:cNvSpPr/>
              <p:nvPr/>
            </p:nvSpPr>
            <p:spPr>
              <a:xfrm>
                <a:off x="6467040" y="6481800"/>
                <a:ext cx="0" cy="24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467040" y="6563160"/>
                <a:ext cx="813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Buri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6" name=""/>
            <p:cNvSpPr/>
            <p:nvPr/>
          </p:nvSpPr>
          <p:spPr>
            <a:xfrm>
              <a:off x="1627560" y="3478320"/>
              <a:ext cx="0" cy="23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31880" y="346644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each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tershed Mercury Process Mode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250560" y="1295280"/>
            <a:ext cx="8893080" cy="5486040"/>
            <a:chOff x="250560" y="1295280"/>
            <a:chExt cx="8893080" cy="5486040"/>
          </a:xfrm>
        </p:grpSpPr>
        <p:sp>
          <p:nvSpPr>
            <p:cNvPr id="412" name=""/>
            <p:cNvSpPr/>
            <p:nvPr/>
          </p:nvSpPr>
          <p:spPr>
            <a:xfrm>
              <a:off x="2588400" y="3530880"/>
              <a:ext cx="897840" cy="74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1762200" y="1959840"/>
              <a:ext cx="5040" cy="10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13080" y="3040920"/>
              <a:ext cx="1312920" cy="647280"/>
            </a:xfrm>
            <a:prstGeom prst="rect">
              <a:avLst/>
            </a:prstGeom>
            <a:solidFill>
              <a:srgbClr val="808080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i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74 </a:t>
              </a:r>
              <a:r>
                <a:rPr b="0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μ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/k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157920" y="4287600"/>
              <a:ext cx="2462760" cy="332280"/>
            </a:xfrm>
            <a:prstGeom prst="rect">
              <a:avLst/>
            </a:prstGeom>
            <a:solidFill>
              <a:srgbClr val="808080">
                <a:alpha val="1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ributari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926360" y="3705480"/>
              <a:ext cx="1231200" cy="58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1370520" y="2384640"/>
              <a:ext cx="0" cy="64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50560" y="2625120"/>
              <a:ext cx="1071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2 </a:t>
              </a:r>
              <a:r>
                <a:rPr b="0" lang="el-GR" sz="1400" spc="-1" strike="noStrike">
                  <a:solidFill>
                    <a:srgbClr val="000000"/>
                  </a:solidFill>
                  <a:latin typeface="Arial"/>
                </a:rPr>
                <a:t>μ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/m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y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3440" y="1295280"/>
              <a:ext cx="5007600" cy="581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tmospheric Deposi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2 (wet), 6 (dry) </a:t>
              </a:r>
              <a:r>
                <a:rPr b="0" lang="el-GR" sz="1400" spc="-1" strike="noStrike">
                  <a:solidFill>
                    <a:srgbClr val="000000"/>
                  </a:solidFill>
                  <a:latin typeface="Arial"/>
                </a:rPr>
                <a:t>μ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/m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y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4881600" y="3954600"/>
              <a:ext cx="0" cy="33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932000" y="3872160"/>
              <a:ext cx="111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4 </a:t>
              </a:r>
              <a:r>
                <a:rPr b="0" lang="el-GR" sz="1400" spc="-1" strike="noStrike">
                  <a:solidFill>
                    <a:srgbClr val="000000"/>
                  </a:solidFill>
                  <a:latin typeface="Arial"/>
                </a:rPr>
                <a:t>μ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/m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y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926360" y="2791440"/>
              <a:ext cx="1395720" cy="642600"/>
            </a:xfrm>
            <a:prstGeom prst="rect">
              <a:avLst/>
            </a:prstGeom>
            <a:solidFill>
              <a:srgbClr val="808080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mpervious Surf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6277680" y="1959840"/>
              <a:ext cx="5040" cy="315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3814920" y="3272760"/>
              <a:ext cx="5040" cy="10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53640" y="5119200"/>
              <a:ext cx="3365640" cy="1163520"/>
            </a:xfrm>
            <a:prstGeom prst="rect">
              <a:avLst/>
            </a:prstGeom>
            <a:solidFill>
              <a:srgbClr val="808080">
                <a:alpha val="1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i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5 – 6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g/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water colum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553640" y="6282720"/>
              <a:ext cx="3365640" cy="498600"/>
            </a:xfrm>
            <a:prstGeom prst="rect">
              <a:avLst/>
            </a:prstGeom>
            <a:solidFill>
              <a:srgbClr val="808080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ediment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lay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0 - 13 </a:t>
              </a:r>
              <a:r>
                <a:rPr b="0" lang="el-GR" sz="1400" spc="-1" strike="noStrike">
                  <a:solidFill>
                    <a:srgbClr val="000000"/>
                  </a:solidFill>
                  <a:latin typeface="Arial"/>
                </a:rPr>
                <a:t>μ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/k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471560" y="4620240"/>
              <a:ext cx="738720" cy="49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919280" y="5617800"/>
              <a:ext cx="82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7344720" y="4537080"/>
              <a:ext cx="0" cy="58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2664720" y="1959840"/>
              <a:ext cx="5400" cy="83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344720" y="6173640"/>
              <a:ext cx="0" cy="24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281360" y="4448520"/>
              <a:ext cx="147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&lt; 0.1 </a:t>
              </a:r>
              <a:r>
                <a:rPr b="0" lang="el-GR" sz="1400" spc="-1" strike="noStrike">
                  <a:solidFill>
                    <a:srgbClr val="000000"/>
                  </a:solidFill>
                  <a:latin typeface="Arial"/>
                </a:rPr>
                <a:t>μ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/m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y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825680" y="5614200"/>
              <a:ext cx="131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.7 </a:t>
              </a:r>
              <a:r>
                <a:rPr b="0" lang="el-GR" sz="1400" spc="-1" strike="noStrike">
                  <a:solidFill>
                    <a:srgbClr val="000000"/>
                  </a:solidFill>
                  <a:latin typeface="Arial"/>
                </a:rPr>
                <a:t>μ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/m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y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404160" y="462024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.7 </a:t>
              </a:r>
              <a:r>
                <a:rPr b="0" lang="el-GR" sz="1400" spc="-1" strike="noStrike">
                  <a:solidFill>
                    <a:srgbClr val="000000"/>
                  </a:solidFill>
                  <a:latin typeface="Arial"/>
                </a:rPr>
                <a:t>μ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/m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y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5015160" y="6163200"/>
              <a:ext cx="0" cy="24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322080" y="2541960"/>
              <a:ext cx="1231200" cy="642600"/>
            </a:xfrm>
            <a:prstGeom prst="rect">
              <a:avLst/>
            </a:prstGeom>
            <a:solidFill>
              <a:srgbClr val="808080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ater Surf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3819960" y="1959840"/>
              <a:ext cx="5040" cy="58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424240" y="3705480"/>
              <a:ext cx="123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6 </a:t>
              </a:r>
              <a:r>
                <a:rPr b="0" lang="el-GR" sz="1400" spc="-1" strike="noStrike">
                  <a:solidFill>
                    <a:srgbClr val="000000"/>
                  </a:solidFill>
                  <a:latin typeface="Arial"/>
                </a:rPr>
                <a:t>μ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/m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y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457080" y="3373560"/>
              <a:ext cx="123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2 </a:t>
              </a:r>
              <a:r>
                <a:rPr b="0" lang="el-GR" sz="1400" spc="-1" strike="noStrike">
                  <a:solidFill>
                    <a:srgbClr val="000000"/>
                  </a:solidFill>
                  <a:latin typeface="Arial"/>
                </a:rPr>
                <a:t>μ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/m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y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626080" y="1959840"/>
              <a:ext cx="73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2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819960" y="1959840"/>
              <a:ext cx="73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.3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588400" y="1959840"/>
              <a:ext cx="73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.4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685520" y="1959840"/>
              <a:ext cx="73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95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603440" y="4038120"/>
              <a:ext cx="1313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.3 </a:t>
              </a:r>
              <a:r>
                <a:rPr b="0" lang="el-GR" sz="1400" spc="-1" strike="noStrike">
                  <a:solidFill>
                    <a:srgbClr val="000000"/>
                  </a:solidFill>
                  <a:latin typeface="Arial"/>
                </a:rPr>
                <a:t>μ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/m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y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ed Fluxes - Ochlockonee Bas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96080" cy="64436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4294440" y="6583320"/>
            <a:ext cx="46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http://www.healthbenchmarks.org/Mercury/AquaticeCycle.cf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-95400" y="431640"/>
            <a:ext cx="9236160" cy="6426360"/>
            <a:chOff x="-95400" y="431640"/>
            <a:chExt cx="9236160" cy="6426360"/>
          </a:xfrm>
        </p:grpSpPr>
        <p:sp>
          <p:nvSpPr>
            <p:cNvPr id="249" name=""/>
            <p:cNvSpPr/>
            <p:nvPr/>
          </p:nvSpPr>
          <p:spPr>
            <a:xfrm>
              <a:off x="-95400" y="431640"/>
              <a:ext cx="9220320" cy="6400800"/>
            </a:xfrm>
            <a:custGeom>
              <a:avLst/>
              <a:gdLst/>
              <a:ahLst/>
              <a:rect l="l" t="t" r="r" b="b"/>
              <a:pathLst>
                <a:path w="5808" h="4032">
                  <a:moveTo>
                    <a:pt x="48" y="0"/>
                  </a:moveTo>
                  <a:lnTo>
                    <a:pt x="48" y="4032"/>
                  </a:lnTo>
                  <a:lnTo>
                    <a:pt x="5808" y="4032"/>
                  </a:lnTo>
                  <a:lnTo>
                    <a:pt x="5808" y="48"/>
                  </a:lnTo>
                  <a:lnTo>
                    <a:pt x="5568" y="144"/>
                  </a:lnTo>
                  <a:lnTo>
                    <a:pt x="5280" y="96"/>
                  </a:lnTo>
                  <a:lnTo>
                    <a:pt x="5088" y="192"/>
                  </a:lnTo>
                  <a:lnTo>
                    <a:pt x="4704" y="96"/>
                  </a:lnTo>
                  <a:lnTo>
                    <a:pt x="4272" y="144"/>
                  </a:lnTo>
                  <a:lnTo>
                    <a:pt x="3984" y="48"/>
                  </a:lnTo>
                  <a:lnTo>
                    <a:pt x="3648" y="144"/>
                  </a:lnTo>
                  <a:lnTo>
                    <a:pt x="3264" y="96"/>
                  </a:lnTo>
                  <a:lnTo>
                    <a:pt x="2736" y="96"/>
                  </a:lnTo>
                  <a:lnTo>
                    <a:pt x="2304" y="48"/>
                  </a:lnTo>
                  <a:lnTo>
                    <a:pt x="1920" y="144"/>
                  </a:lnTo>
                  <a:lnTo>
                    <a:pt x="1152" y="96"/>
                  </a:lnTo>
                  <a:lnTo>
                    <a:pt x="528" y="144"/>
                  </a:lnTo>
                  <a:lnTo>
                    <a:pt x="48" y="48"/>
                  </a:lnTo>
                  <a:lnTo>
                    <a:pt x="0" y="0"/>
                  </a:lnTo>
                  <a:lnTo>
                    <a:pt x="0" y="48"/>
                  </a:lnTo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0" name="" descr=""/>
            <p:cNvPicPr/>
            <p:nvPr/>
          </p:nvPicPr>
          <p:blipFill>
            <a:blip r:embed="rId1"/>
            <a:stretch/>
          </p:blipFill>
          <p:spPr>
            <a:xfrm>
              <a:off x="6686640" y="4162320"/>
              <a:ext cx="1752480" cy="90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2"/>
            <a:stretch/>
          </p:blipFill>
          <p:spPr>
            <a:xfrm>
              <a:off x="5162400" y="1117440"/>
              <a:ext cx="309564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 flipH="1" flipV="1">
              <a:off x="5465520" y="2133360"/>
              <a:ext cx="2190600" cy="218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937400" y="888840"/>
              <a:ext cx="300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edator Fish: Yellow Pe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-19080" y="5842080"/>
              <a:ext cx="9144000" cy="990360"/>
            </a:xfrm>
            <a:custGeom>
              <a:avLst/>
              <a:gdLst/>
              <a:ahLst/>
              <a:rect l="l" t="t" r="r" b="b"/>
              <a:pathLst>
                <a:path w="5760" h="624">
                  <a:moveTo>
                    <a:pt x="0" y="48"/>
                  </a:moveTo>
                  <a:lnTo>
                    <a:pt x="0" y="624"/>
                  </a:lnTo>
                  <a:lnTo>
                    <a:pt x="5760" y="624"/>
                  </a:lnTo>
                  <a:lnTo>
                    <a:pt x="5760" y="96"/>
                  </a:lnTo>
                  <a:lnTo>
                    <a:pt x="5136" y="0"/>
                  </a:lnTo>
                  <a:lnTo>
                    <a:pt x="4272" y="144"/>
                  </a:lnTo>
                  <a:lnTo>
                    <a:pt x="3120" y="48"/>
                  </a:lnTo>
                  <a:lnTo>
                    <a:pt x="2736" y="144"/>
                  </a:lnTo>
                  <a:lnTo>
                    <a:pt x="1872" y="144"/>
                  </a:lnTo>
                  <a:lnTo>
                    <a:pt x="1344" y="0"/>
                  </a:lnTo>
                  <a:lnTo>
                    <a:pt x="720" y="96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698440" y="622296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nth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639600" y="241308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H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4324320" y="2031840"/>
              <a:ext cx="99072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536880" y="4927680"/>
              <a:ext cx="260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ey Fish: Yellow Pe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98560" y="3936960"/>
              <a:ext cx="143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ooplankt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22240" y="965160"/>
              <a:ext cx="162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hytoplankt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428840" y="210816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4724280" y="2133720"/>
              <a:ext cx="685800" cy="365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 flipV="1">
              <a:off x="2266920" y="1802880"/>
              <a:ext cx="144792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324320" y="2717640"/>
              <a:ext cx="2362320" cy="190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266920" y="4622760"/>
              <a:ext cx="441972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2266920" y="2133360"/>
              <a:ext cx="3067200" cy="226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7" name="" descr=""/>
            <p:cNvPicPr/>
            <p:nvPr/>
          </p:nvPicPr>
          <p:blipFill>
            <a:blip r:embed="rId3"/>
            <a:stretch/>
          </p:blipFill>
          <p:spPr>
            <a:xfrm>
              <a:off x="4324320" y="5842080"/>
              <a:ext cx="1295280" cy="101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 flipV="1">
              <a:off x="4781520" y="4775040"/>
              <a:ext cx="1981080" cy="106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9" name="" descr=""/>
            <p:cNvPicPr/>
            <p:nvPr/>
          </p:nvPicPr>
          <p:blipFill>
            <a:blip r:embed="rId4"/>
            <a:stretch/>
          </p:blipFill>
          <p:spPr>
            <a:xfrm>
              <a:off x="895320" y="4241880"/>
              <a:ext cx="1295280" cy="101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 flipH="1">
              <a:off x="2037960" y="2717640"/>
              <a:ext cx="167652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1" name="" descr=""/>
            <p:cNvPicPr/>
            <p:nvPr/>
          </p:nvPicPr>
          <p:blipFill>
            <a:blip r:embed="rId5"/>
            <a:stretch/>
          </p:blipFill>
          <p:spPr>
            <a:xfrm>
              <a:off x="1123920" y="1270080"/>
              <a:ext cx="99072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4095720" y="2793960"/>
              <a:ext cx="457200" cy="30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ef6f1"/>
                </a:solidFill>
                <a:latin typeface="Arial"/>
              </a:rPr>
              <a:t>Mercury in the Food W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24200" y="6521400"/>
            <a:ext cx="370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Images from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www.glerl.noaa.gov/pubs/photogallery/gallery.html, www.dnr.state.wi.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"/>
          <p:cNvGrpSpPr/>
          <p:nvPr/>
        </p:nvGrpSpPr>
        <p:grpSpPr>
          <a:xfrm>
            <a:off x="762120" y="3124080"/>
            <a:ext cx="7848000" cy="3352320"/>
            <a:chOff x="762120" y="3124080"/>
            <a:chExt cx="7848000" cy="3352320"/>
          </a:xfrm>
        </p:grpSpPr>
        <p:sp>
          <p:nvSpPr>
            <p:cNvPr id="276" name=""/>
            <p:cNvSpPr/>
            <p:nvPr/>
          </p:nvSpPr>
          <p:spPr>
            <a:xfrm>
              <a:off x="762120" y="3124080"/>
              <a:ext cx="7848000" cy="17272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62120" y="4851360"/>
              <a:ext cx="7848000" cy="4060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62120" y="5257440"/>
              <a:ext cx="7848000" cy="12189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 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SP Mercury  Mo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1532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6477120" y="2742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705720" y="2743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4"/>
          <a:stretch/>
        </p:blipFill>
        <p:spPr>
          <a:xfrm flipH="1">
            <a:off x="2590560" y="3886200"/>
            <a:ext cx="685800" cy="35244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6019560" y="1676520"/>
            <a:ext cx="1186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lat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Hg(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114800" y="2743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981080" y="1676520"/>
            <a:ext cx="4307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tershed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mospheric Lo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Hg(II) and MeH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43200" y="5105520"/>
            <a:ext cx="0" cy="685800"/>
          </a:xfrm>
          <a:prstGeom prst="line">
            <a:avLst/>
          </a:prstGeom>
          <a:ln w="28440">
            <a:solidFill>
              <a:srgbClr val="def6f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502800" y="3432240"/>
            <a:ext cx="18450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te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g(0)     Si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g(II)     S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H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 rot="10800000">
            <a:off x="1828800" y="3809520"/>
            <a:ext cx="200160" cy="376200"/>
          </a:xfrm>
          <a:custGeom>
            <a:avLst/>
            <a:gdLst>
              <a:gd name="textAreaLeft" fmla="*/ 26640 w 200160"/>
              <a:gd name="textAreaRight" fmla="*/ 173520 w 200160"/>
              <a:gd name="textAreaTop" fmla="*/ 65880 h 376200"/>
              <a:gd name="textAreaBottom" fmla="*/ 272880 h 37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222560" y="4191120"/>
            <a:ext cx="124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thy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222920" y="3505320"/>
            <a:ext cx="145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methy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 rot="10800000">
            <a:off x="6629400" y="3885840"/>
            <a:ext cx="200160" cy="376200"/>
          </a:xfrm>
          <a:custGeom>
            <a:avLst/>
            <a:gdLst>
              <a:gd name="textAreaLeft" fmla="*/ 26640 w 200160"/>
              <a:gd name="textAreaRight" fmla="*/ 173520 w 200160"/>
              <a:gd name="textAreaTop" fmla="*/ 65880 h 376200"/>
              <a:gd name="textAreaBottom" fmla="*/ 272880 h 37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099120" y="3581280"/>
            <a:ext cx="104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xid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098760" y="4267080"/>
            <a:ext cx="107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210400" y="57056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f6f1"/>
                </a:solidFill>
                <a:latin typeface="Times New Roman"/>
              </a:rPr>
              <a:t>Bu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4495680" y="44956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572000" y="44956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505320" y="5048280"/>
            <a:ext cx="0" cy="457200"/>
          </a:xfrm>
          <a:prstGeom prst="line">
            <a:avLst/>
          </a:prstGeom>
          <a:ln w="28440">
            <a:solidFill>
              <a:srgbClr val="def6f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3581280" y="5041800"/>
            <a:ext cx="0" cy="457200"/>
          </a:xfrm>
          <a:prstGeom prst="line">
            <a:avLst/>
          </a:prstGeom>
          <a:ln w="28440">
            <a:solidFill>
              <a:srgbClr val="def6f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828800" y="2743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066680" y="1676520"/>
            <a:ext cx="1524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int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ads of Hg(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107680" y="3886200"/>
            <a:ext cx="6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 rot="10800000">
            <a:off x="6628320" y="4647960"/>
            <a:ext cx="152280" cy="299880"/>
          </a:xfrm>
          <a:custGeom>
            <a:avLst/>
            <a:gdLst>
              <a:gd name="textAreaLeft" fmla="*/ 20160 w 152280"/>
              <a:gd name="textAreaRight" fmla="*/ 132120 w 152280"/>
              <a:gd name="textAreaTop" fmla="*/ 52200 h 299880"/>
              <a:gd name="textAreaBottom" fmla="*/ 217440 h 29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6400080" y="4648320"/>
            <a:ext cx="152280" cy="299880"/>
          </a:xfrm>
          <a:custGeom>
            <a:avLst/>
            <a:gdLst>
              <a:gd name="textAreaLeft" fmla="*/ 20160 w 152280"/>
              <a:gd name="textAreaRight" fmla="*/ 132120 w 152280"/>
              <a:gd name="textAreaTop" fmla="*/ 52200 h 299880"/>
              <a:gd name="textAreaBottom" fmla="*/ 217440 h 29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1675800" y="4952880"/>
            <a:ext cx="152280" cy="300240"/>
          </a:xfrm>
          <a:custGeom>
            <a:avLst/>
            <a:gdLst>
              <a:gd name="textAreaLeft" fmla="*/ 20160 w 152280"/>
              <a:gd name="textAreaRight" fmla="*/ 132120 w 152280"/>
              <a:gd name="textAreaTop" fmla="*/ 52560 h 300240"/>
              <a:gd name="textAreaBottom" fmla="*/ 217800 h 30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 rot="10800000">
            <a:off x="1827720" y="4952880"/>
            <a:ext cx="152280" cy="300240"/>
          </a:xfrm>
          <a:custGeom>
            <a:avLst/>
            <a:gdLst>
              <a:gd name="textAreaLeft" fmla="*/ 20160 w 152280"/>
              <a:gd name="textAreaRight" fmla="*/ 132120 w 152280"/>
              <a:gd name="textAreaTop" fmla="*/ 52560 h 300240"/>
              <a:gd name="textAreaBottom" fmla="*/ 217800 h 30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1523160" y="3809880"/>
            <a:ext cx="228600" cy="381240"/>
          </a:xfrm>
          <a:custGeom>
            <a:avLst/>
            <a:gdLst>
              <a:gd name="textAreaLeft" fmla="*/ 30600 w 228600"/>
              <a:gd name="textAreaRight" fmla="*/ 198000 w 228600"/>
              <a:gd name="textAreaTop" fmla="*/ 66600 h 381240"/>
              <a:gd name="textAreaBottom" fmla="*/ 2764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6323760" y="3886200"/>
            <a:ext cx="228600" cy="380880"/>
          </a:xfrm>
          <a:custGeom>
            <a:avLst/>
            <a:gdLst>
              <a:gd name="textAreaLeft" fmla="*/ 30600 w 228600"/>
              <a:gd name="textAreaRight" fmla="*/ 198000 w 22860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ercury Processes in WA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iti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latilization of Hg0(aq) to Hg0(a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xidation:  Hg0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g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tion: HgII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g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ylation: HgII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H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methylation: MeHg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g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otoreduction: MeHg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g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ercury Partitioning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762120" y="1143000"/>
          <a:ext cx="8053200" cy="2863800"/>
        </p:xfrm>
        <a:graphic>
          <a:graphicData uri="http://schemas.openxmlformats.org/drawingml/2006/table">
            <a:tbl>
              <a:tblPr/>
              <a:tblGrid>
                <a:gridCol w="2209680"/>
                <a:gridCol w="1805040"/>
                <a:gridCol w="2019240"/>
                <a:gridCol w="20192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ition Coeffici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g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H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g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r>
                        <a:rPr b="0" i="1" lang="en-US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fi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e5 - 1.0e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e5 - 1.0e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r>
                        <a:rPr b="0" i="1" lang="en-US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s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e2 – 1.0e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e2 – 1.0e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og K</a:t>
                      </a:r>
                      <a:r>
                        <a:rPr b="0" i="1" lang="en-US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DO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–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7" name=""/>
          <p:cNvSpPr/>
          <p:nvPr/>
        </p:nvSpPr>
        <p:spPr>
          <a:xfrm>
            <a:off x="593640" y="4761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62120" y="4025880"/>
            <a:ext cx="7640640" cy="27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ameter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Enter Dissolved Organic Carbon Concentr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 Rang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ligotrophic Lake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1 – 3 mg/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sotrophic Lake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1 – 5 mg/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utrophic Lake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 – 30 mg/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ystrophic Lake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 – 30 mg/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om Wetzel, 200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g0 Volat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g(0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dis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gaseous Hg(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ant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 volatilization op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 to 5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nry’s Law consta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.g., 7.1e-3 atm/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mospheric concentr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.g., 1.6e-9 g/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g0 Oxi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xidation: Hg(0) to Hg(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g0 Constant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 phase switches (1 for dissolv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ield coefficient (1.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ameter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te constants for water column seg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e.g., 1e-2 to 1e-3 day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gII Transformation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tion: HgII to Hg(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gII Consta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 photolysis option (2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ntum yield coefficients (1 for diss, sorb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ield coefficient (1.0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rface rate constant (e.g., 1e-3 to 1e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ameter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 attenuation coefficients for water column seg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.g., 0.5-2 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9T16:07:42Z</dcterms:created>
  <dc:creator>CKNIGHTES</dc:creator>
  <dc:description/>
  <dc:language>en-US</dc:language>
  <cp:lastModifiedBy>RAMBROSE</cp:lastModifiedBy>
  <dcterms:modified xsi:type="dcterms:W3CDTF">2005-09-12T18:13:21Z</dcterms:modified>
  <cp:revision>6</cp:revision>
  <dc:subject/>
  <dc:title>Overview of Wasp Mercury  Module</dc:title>
</cp:coreProperties>
</file>