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B12-C8AE-4D36-9369-D231322D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3B6-0D37-41EA-8B96-95970710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27D-1939-418D-946A-EA7015BD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7A7-4391-4EE4-9063-EFBA776C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BEAA-0505-4C22-ACF0-6C19E108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1C80-785A-427E-8DE8-7541C644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4FBC-C50F-4266-9304-808E20FE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3D39-36A7-429D-AA87-EFADAC24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E117-C37E-45F4-BBC2-184D67E9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C375-0C61-402D-8EF1-1CA75B5F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35FF-A740-412D-BF87-C76CDD3D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333-17DF-4538-8461-35861D15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7F18-AEF8-4DB7-A4E5-58B08481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3505-8751-4F37-BAEE-38729CE5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0F37-FC2C-4387-A8A7-FEBE1539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3A34-51C0-43BA-B2A8-601F6251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00DF-D602-4BC9-A4AB-990C01DC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295-700F-46A0-91B8-21A6F8A1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30C-3473-452E-8B19-DAA6BA6C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132-D7B9-4687-AB54-73F91A95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ADD-3183-4984-9C7B-D9A6E53D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8F3-1349-44B2-AE9B-786F4872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199-C6CB-4269-9FEE-E0F1A99B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15D-E94E-49F9-BCE0-40484707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936D-D8FF-4594-A140-7DDB9BD25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MT Extra Bold"/>
              </a:rPr>
              <a:t>Watershed &amp; Water Quality Modeling Technical Suppor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0713-350B-4795-98F9-66BD87B3B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ydro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Process Equations and Model Inpu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ydro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0" y="1454040"/>
            <a:ext cx="541008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ydrolytic Reac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68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 Dependenc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71640" y="1143000"/>
            <a:ext cx="491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ydrolysis Rate Consta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70000" y="1371600"/>
            <a:ext cx="5019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ASP Hydrolysis Equ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ta for Hydro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1028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6:02:56Z</dcterms:created>
  <dc:creator>CKNIGHTES</dc:creator>
  <dc:description/>
  <dc:language>en-US</dc:language>
  <cp:lastModifiedBy>RAMBROSE</cp:lastModifiedBy>
  <dcterms:modified xsi:type="dcterms:W3CDTF">2005-07-12T15:19:37Z</dcterms:modified>
  <cp:revision>3</cp:revision>
  <dc:subject/>
  <dc:title>Hydrolysis</dc:title>
</cp:coreProperties>
</file>