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D25-F2AD-482C-83DC-15ABEE99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976-FC02-4C2E-88CC-0615ACA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7DC-EFC1-4ED6-810C-C49AABEA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66F-36F1-45DE-9B4A-3205E5A1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2383-90F0-4A4B-B596-DCDFFE87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D2D-8878-470A-A22C-2AACF7E8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2981-6560-4045-84CE-40FA5BE6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85BB-8C90-4BB0-BF86-AF6AAD77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C3D9-7CA4-4FBA-8FC4-BE52CDF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1EFD-1E2F-4902-A1F2-E5DC0E3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FCA1-E041-441A-8E3E-542197C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553-4797-4FEA-A622-2F66A6D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F6DC-C3CA-4E9E-A8A6-643E645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74EA-61BF-4AD7-A871-F759346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6BA6-7635-4791-BAAA-5A248336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BB62-ED56-4B98-830C-D59276E5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EA0F-5DDA-4C6B-8727-4F7306F1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F52-428C-4195-9380-490F06C5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9D4-4176-4F76-9E57-50F66599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4E0-5CB0-4ED9-876E-27299C6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40F-383F-4FF0-A2FA-22DFB02E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177-0A42-4761-98E2-B70F87BF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1B7-2BD0-48AE-8E06-7619707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13E-19BD-40D2-895D-1F75584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8E37-B44B-4C7C-A291-667492F62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9C7-F353-4714-A644-5DD631DB4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oto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Process Equations and Model Inp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oto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6483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ar Radi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94200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ght Attenu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98484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oto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3118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otolysis Rea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0680" y="22096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Equ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505320" y="1905120"/>
                <a:ext cx="35812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05320" y="3124080"/>
                <a:ext cx="3733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38280" y="4038480"/>
                <a:ext cx="62517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303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64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36640" y="31240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5120" y="5105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38280" y="5181480"/>
                <a:ext cx="62485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nligh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sorp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te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antu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rradien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velengt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hoton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cad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sorptivit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e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otolysis Op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318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 for Option 1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3900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 for Option 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990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6:04:15Z</dcterms:created>
  <dc:creator>CKNIGHTES</dc:creator>
  <dc:description/>
  <dc:language>en-US</dc:language>
  <cp:lastModifiedBy>RAMBROSE</cp:lastModifiedBy>
  <dcterms:modified xsi:type="dcterms:W3CDTF">2005-07-12T15:23:06Z</dcterms:modified>
  <cp:revision>3</cp:revision>
  <dc:subject/>
  <dc:title>Photolysis</dc:title>
</cp:coreProperties>
</file>