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3CC-12ED-4685-B36E-4BD2611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C57-1108-44BC-AF23-028D2DD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834-6A40-485F-A09E-92E28ECC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DDB-A57F-41E1-8127-C2BBE26F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C8FA-02D3-4CA7-B347-F5D3D98C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A306-212A-4412-B129-5A0E50AE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59D4-D9E4-47AA-94E1-FCBCFF2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78D4-5A8F-47F7-9433-E2199BE7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8367-798D-4E98-A33A-5BFAA80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D50D-1A7F-4F38-B063-00E016EF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FA98-E713-42B4-A73E-5FEB0B6A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AAB-8C08-4D30-B543-3C04ACA3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EF2-DBB3-4664-8CBF-DCDDEC3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76A2-CF85-4B3F-B1B1-6A6F191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F293-3536-440A-9F78-C39276C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9C6-A02F-45E7-BE13-84B7B67C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DB0-6D5C-4230-9022-E15E066C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D85-92C8-43C5-A813-137723F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B96-3F91-4E84-A1AD-A6BD2AD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A1F-348E-46D9-B354-FB89CF6A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FEA-2A0D-4F68-9297-CAE1C96B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9BC-10A1-4B4A-8C23-6369DFE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621-C420-4A5B-AB09-CF5B52D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814-9F99-41AA-A3AC-B891890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3D6-A4DA-4235-867F-FBC257D90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E08D-0A42-4586-A197-39CFD70A1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on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Process Equations and Model Inp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eak Aci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93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eak Ba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97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57:45Z</dcterms:created>
  <dc:creator>CKNIGHTES</dc:creator>
  <dc:description/>
  <dc:language>en-US</dc:language>
  <cp:lastModifiedBy>RAMBROSE</cp:lastModifiedBy>
  <dcterms:modified xsi:type="dcterms:W3CDTF">2005-07-12T14:33:43Z</dcterms:modified>
  <cp:revision>20</cp:revision>
  <dc:subject/>
  <dc:title>Organic Chemical Model</dc:title>
</cp:coreProperties>
</file>