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B9D-546D-47E4-9EE9-FC58D2C4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EAA-B017-4AAE-8CAC-048C3D0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AB7-B9F4-44A4-8ED7-EB819D8C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952-4F1F-49BF-9722-E34C73C9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83D-0CE2-4F2E-88B2-BC9D6BA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FAC-AE45-4C55-AE0D-43D71468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BB9-5982-497C-9E98-4F9E2DA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280-524B-4CE8-BCDB-C3E91D37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29D-A8C7-4028-B265-5B999AA0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E78-A106-41CD-BC40-EC47EF7A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7AD-F91E-4332-98EE-DFFEE75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994-1DEF-40C1-BB69-53FBFC4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671-35D9-4BA7-BF89-5AC939BF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Petroleum Mixtures in Surface Waters using WA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robl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king Crude Oil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600200"/>
          <a:ext cx="7729560" cy="4089240"/>
        </p:xfrm>
        <a:graphic>
          <a:graphicData uri="http://schemas.openxmlformats.org/drawingml/2006/table">
            <a:tbl>
              <a:tblPr/>
              <a:tblGrid>
                <a:gridCol w="2898720"/>
                <a:gridCol w="1600200"/>
                <a:gridCol w="1589040"/>
                <a:gridCol w="1641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de O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m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hal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nt M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Louisi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g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dh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ndo  Hum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75840" y="57913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. M. Atlas, 19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robl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king Crude Oil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1600200"/>
          <a:ext cx="7729560" cy="990720"/>
        </p:xfrm>
        <a:graphic>
          <a:graphicData uri="http://schemas.openxmlformats.org/drawingml/2006/table">
            <a:tbl>
              <a:tblPr/>
              <a:tblGrid>
                <a:gridCol w="2898720"/>
                <a:gridCol w="1600200"/>
                <a:gridCol w="1589040"/>
                <a:gridCol w="164160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de O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m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hal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5000" y="2895480"/>
            <a:ext cx="60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romatics are 30% PAHs and 70% B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505320"/>
          <a:ext cx="7729560" cy="1041120"/>
        </p:xfrm>
        <a:graphic>
          <a:graphicData uri="http://schemas.openxmlformats.org/drawingml/2006/table">
            <a:tbl>
              <a:tblPr/>
              <a:tblGrid>
                <a:gridCol w="2898720"/>
                <a:gridCol w="1600200"/>
                <a:gridCol w="1589400"/>
                <a:gridCol w="16412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de O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324480" y="243828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438280"/>
            <a:ext cx="7621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Petroleum Hydrocarb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(TPHCWG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carbon Fraction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2057400"/>
          <a:ext cx="9144000" cy="2906640"/>
        </p:xfrm>
        <a:graphic>
          <a:graphicData uri="http://schemas.openxmlformats.org/drawingml/2006/table">
            <a:tbl>
              <a:tblPr/>
              <a:tblGrid>
                <a:gridCol w="1162080"/>
                <a:gridCol w="1123920"/>
                <a:gridCol w="1219320"/>
                <a:gridCol w="1218960"/>
                <a:gridCol w="1219320"/>
                <a:gridCol w="1752480"/>
                <a:gridCol w="14479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arbo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bility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[mg/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’s Law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nst [-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(K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degradation Rate Constant [per day]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-Liquid Fugacity Rati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-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462320" y="5410080"/>
            <a:ext cx="6517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tafson et al, 1997. From the TPHCWG Series, Vol.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n et al, 19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ton, et al., 1999 and Environmental Science Center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PHCWG Hydrocarbon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905120"/>
          <a:ext cx="8229600" cy="3338280"/>
        </p:xfrm>
        <a:graphic>
          <a:graphicData uri="http://schemas.openxmlformats.org/drawingml/2006/table">
            <a:tbl>
              <a:tblPr/>
              <a:tblGrid>
                <a:gridCol w="1273320"/>
                <a:gridCol w="1850760"/>
                <a:gridCol w="1524240"/>
                <a:gridCol w="1752480"/>
                <a:gridCol w="18288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Mo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ous Solubi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g/L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-Liquid Fugacity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ous Concentr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g/L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4120" y="2895480"/>
                <a:ext cx="121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52680" y="5638680"/>
                <a:ext cx="2438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d Crude Oil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57400"/>
          <a:ext cx="9220320" cy="275760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  <a:gridCol w="1523880"/>
                <a:gridCol w="1295280"/>
                <a:gridCol w="1981440"/>
                <a:gridCol w="1600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P Chem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’s Law Const [atm-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ol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(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degradation Rate Constant [per day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ous Co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g/L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E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43:20Z</dcterms:created>
  <dc:creator>CKNIGHTES</dc:creator>
  <dc:description/>
  <dc:language>en-US</dc:language>
  <cp:lastModifiedBy>CKNIGHTES</cp:lastModifiedBy>
  <dcterms:modified xsi:type="dcterms:W3CDTF">2005-04-14T15:03:10Z</dcterms:modified>
  <cp:revision>6</cp:revision>
  <dc:subject/>
  <dc:title>Modeling Petroleum Mixtures in Surface Waters using WASP</dc:title>
</cp:coreProperties>
</file>