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0.jpeg" ContentType="image/jpeg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4D1-B717-4308-B6A6-4DE09378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78F-EF84-4A3C-83CB-5EA637DB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364-0E2F-44A3-9893-ABEB1F5D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90B-575C-4FF3-9226-66356483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846-7002-45A5-9C66-8D750B7D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209-6090-4C72-A931-FE4A9F21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E57-FCD1-408C-9EFC-49DA4F08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E20-CBB2-479F-AAB9-7DF02612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6B2-4E96-4088-B22C-A1E19116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C9BD-3EFD-40E7-880C-D23C769D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B30-A5E0-450F-8EA5-1881D078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BA4-125B-43A4-A111-45340581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9A65-295A-499D-B79D-CEEC3524A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Tools Used for Mercury TMDLs in Georgia Ri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B. Ambrose, J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 A. W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P00490" descr=""/>
          <p:cNvPicPr/>
          <p:nvPr/>
        </p:nvPicPr>
        <p:blipFill>
          <a:blip r:embed="rId1"/>
          <a:stretch/>
        </p:blipFill>
        <p:spPr>
          <a:xfrm>
            <a:off x="1371600" y="5715000"/>
            <a:ext cx="3886200" cy="903240"/>
          </a:xfrm>
          <a:prstGeom prst="rect">
            <a:avLst/>
          </a:prstGeom>
          <a:ln w="0">
            <a:noFill/>
          </a:ln>
        </p:spPr>
      </p:pic>
      <p:pic>
        <p:nvPicPr>
          <p:cNvPr id="44" name="r4logo-b" descr=""/>
          <p:cNvPicPr/>
          <p:nvPr/>
        </p:nvPicPr>
        <p:blipFill>
          <a:blip r:embed="rId2"/>
          <a:stretch/>
        </p:blipFill>
        <p:spPr>
          <a:xfrm>
            <a:off x="5486400" y="5791320"/>
            <a:ext cx="2819520" cy="57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wcs_2" descr=""/>
          <p:cNvPicPr/>
          <p:nvPr/>
        </p:nvPicPr>
        <p:blipFill>
          <a:blip r:embed="rId1"/>
          <a:srcRect l="0" t="14296" r="0" b="0"/>
          <a:stretch/>
        </p:blipFill>
        <p:spPr>
          <a:xfrm>
            <a:off x="990720" y="1447920"/>
            <a:ext cx="7696080" cy="4643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ings Determined for Each Subwatersh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cury Load From Watershed to Ochlockonee Tribut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95280" y="2057400"/>
          <a:ext cx="6858000" cy="400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57400"/>
                    <a:ext cx="685800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095880" y="3505320"/>
            <a:ext cx="1981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ervious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3200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cury Load From Watersh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Savannah Tribut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83760" cy="39798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butary Delivery From Watershed to Main Water B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04920" y="2438280"/>
                <a:ext cx="8534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ibutar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liver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295280" y="33526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85800" y="3429000"/>
                <a:ext cx="682776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duc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at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ant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out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imum travel time, day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ibutary length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rom reach file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ibutary current velocit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rom reach fil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wcs_3" descr=""/>
          <p:cNvPicPr/>
          <p:nvPr/>
        </p:nvPicPr>
        <p:blipFill>
          <a:blip r:embed="rId1"/>
          <a:srcRect l="0" t="15000" r="0" b="0"/>
          <a:stretch/>
        </p:blipFill>
        <p:spPr>
          <a:xfrm>
            <a:off x="685800" y="1371600"/>
            <a:ext cx="8001000" cy="47242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butary Loadings Applied to Main Stem of Ochlockon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WASP5 Mercury  Model for Main Ri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352680"/>
            <a:ext cx="7010640" cy="129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532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477120" y="2742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648320"/>
            <a:ext cx="7010640" cy="30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952880"/>
            <a:ext cx="701064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an00410_" descr=""/>
          <p:cNvPicPr/>
          <p:nvPr/>
        </p:nvPicPr>
        <p:blipFill>
          <a:blip r:embed="rId4"/>
          <a:stretch/>
        </p:blipFill>
        <p:spPr>
          <a:xfrm flipH="1">
            <a:off x="2590560" y="3886200"/>
            <a:ext cx="685800" cy="352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866560" y="2057400"/>
            <a:ext cx="157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a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29040" y="2057400"/>
            <a:ext cx="218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shed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mospheric 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4724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3520" y="3505320"/>
            <a:ext cx="134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g(0)     Si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g(II)     S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H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3809880"/>
            <a:ext cx="152280" cy="452520"/>
          </a:xfrm>
          <a:custGeom>
            <a:avLst/>
            <a:gdLst>
              <a:gd name="textAreaLeft" fmla="*/ 20160 w 152280"/>
              <a:gd name="textAreaRight" fmla="*/ 132120 w 152280"/>
              <a:gd name="textAreaTop" fmla="*/ 79200 h 452520"/>
              <a:gd name="textAreaBottom" fmla="*/ 328320 h 45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5400000"/>
                <a:lnTo>
                  <a:pt x="21600" y="21600"/>
                </a:lnTo>
                <a:lnTo>
                  <a:pt x="21600" y="17280"/>
                </a:lnTo>
                <a:lnTo>
                  <a:pt x="21600" y="12960"/>
                </a:lnTo>
                <a:lnTo>
                  <a:pt x="21600" y="15120"/>
                </a:lnTo>
                <a:arcTo wR="21600" hR="7560" stAng="5400000" swAng="504256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rot="10800000">
            <a:off x="1904040" y="3809520"/>
            <a:ext cx="199800" cy="376200"/>
          </a:xfrm>
          <a:custGeom>
            <a:avLst/>
            <a:gdLst>
              <a:gd name="textAreaLeft" fmla="*/ 26640 w 199800"/>
              <a:gd name="textAreaRight" fmla="*/ 173160 w 199800"/>
              <a:gd name="textAreaTop" fmla="*/ 65880 h 376200"/>
              <a:gd name="textAreaBottom" fmla="*/ 27288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22560" y="419112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hy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22920" y="350532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hy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3886200"/>
            <a:ext cx="152640" cy="452520"/>
          </a:xfrm>
          <a:custGeom>
            <a:avLst/>
            <a:gdLst>
              <a:gd name="textAreaLeft" fmla="*/ 20160 w 152640"/>
              <a:gd name="textAreaRight" fmla="*/ 132480 w 152640"/>
              <a:gd name="textAreaTop" fmla="*/ 79200 h 452520"/>
              <a:gd name="textAreaBottom" fmla="*/ 328320 h 45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5400000"/>
                <a:lnTo>
                  <a:pt x="21600" y="21600"/>
                </a:lnTo>
                <a:lnTo>
                  <a:pt x="21600" y="17280"/>
                </a:lnTo>
                <a:lnTo>
                  <a:pt x="21600" y="12960"/>
                </a:lnTo>
                <a:lnTo>
                  <a:pt x="21600" y="15120"/>
                </a:lnTo>
                <a:arcTo wR="21600" hR="7560" stAng="5400000" swAng="504256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rot="10800000">
            <a:off x="6629400" y="3885840"/>
            <a:ext cx="200160" cy="376200"/>
          </a:xfrm>
          <a:custGeom>
            <a:avLst/>
            <a:gdLst>
              <a:gd name="textAreaLeft" fmla="*/ 26640 w 200160"/>
              <a:gd name="textAreaRight" fmla="*/ 173520 w 200160"/>
              <a:gd name="textAreaTop" fmla="*/ 65880 h 376200"/>
              <a:gd name="textAreaBottom" fmla="*/ 27288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7680" y="358128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7680" y="42670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720" y="51814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u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4956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581280" y="4800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0574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7680" y="38862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0800000">
            <a:off x="6628320" y="4647960"/>
            <a:ext cx="152280" cy="299880"/>
          </a:xfrm>
          <a:custGeom>
            <a:avLst/>
            <a:gdLst>
              <a:gd name="textAreaLeft" fmla="*/ 20160 w 152280"/>
              <a:gd name="textAreaRight" fmla="*/ 132120 w 152280"/>
              <a:gd name="textAreaTop" fmla="*/ 52200 h 299880"/>
              <a:gd name="textAreaBottom" fmla="*/ 2174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400080" y="4648320"/>
            <a:ext cx="152280" cy="299880"/>
          </a:xfrm>
          <a:custGeom>
            <a:avLst/>
            <a:gdLst>
              <a:gd name="textAreaLeft" fmla="*/ 20160 w 152280"/>
              <a:gd name="textAreaRight" fmla="*/ 132120 w 152280"/>
              <a:gd name="textAreaTop" fmla="*/ 52200 h 299880"/>
              <a:gd name="textAreaBottom" fmla="*/ 2174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675800" y="4648320"/>
            <a:ext cx="152280" cy="299880"/>
          </a:xfrm>
          <a:custGeom>
            <a:avLst/>
            <a:gdLst>
              <a:gd name="textAreaLeft" fmla="*/ 20160 w 152280"/>
              <a:gd name="textAreaRight" fmla="*/ 132120 w 152280"/>
              <a:gd name="textAreaTop" fmla="*/ 52200 h 299880"/>
              <a:gd name="textAreaBottom" fmla="*/ 2174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0800000">
            <a:off x="1904040" y="4647960"/>
            <a:ext cx="152280" cy="299880"/>
          </a:xfrm>
          <a:custGeom>
            <a:avLst/>
            <a:gdLst>
              <a:gd name="textAreaLeft" fmla="*/ 20160 w 152280"/>
              <a:gd name="textAreaRight" fmla="*/ 132120 w 152280"/>
              <a:gd name="textAreaTop" fmla="*/ 52200 h 299880"/>
              <a:gd name="textAreaBottom" fmla="*/ 2174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erved and Calculated Total Hg for Drought Flow Conditions in Savannah Ri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62012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ted Total Hg for Average Flow Conditions in Savannah Ri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767720" cy="436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erved and Calculated Total Hg for Drought Flow Conditions in Ochlockonee Ri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33520" y="2438280"/>
          <a:ext cx="7543800" cy="4249800"/>
        </p:xfrm>
        <a:graphic>
          <a:graphicData uri="http://schemas.openxmlformats.org/drawingml/2006/table">
            <a:tbl>
              <a:tblPr/>
              <a:tblGrid>
                <a:gridCol w="2971800"/>
                <a:gridCol w="1447560"/>
                <a:gridCol w="1600200"/>
                <a:gridCol w="1524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erved Med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ated Med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e Err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gT soil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gT sediment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gT water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Hg sediment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Hg water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ed Total Hg for Average Loading and Flow Conditions in Ochlockonee Ri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2666880"/>
          <a:ext cx="9144000" cy="3103560"/>
        </p:xfrm>
        <a:graphic>
          <a:graphicData uri="http://schemas.openxmlformats.org/drawingml/2006/table">
            <a:tbl>
              <a:tblPr/>
              <a:tblGrid>
                <a:gridCol w="2133720"/>
                <a:gridCol w="1066680"/>
                <a:gridCol w="1219320"/>
                <a:gridCol w="1143000"/>
                <a:gridCol w="1295280"/>
                <a:gridCol w="1219320"/>
                <a:gridCol w="106668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gT water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gT sediment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Hg water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cury TMDL Computational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676520"/>
            <a:ext cx="25909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ospheric emis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, anthropogen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global, regional, lo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1676520"/>
            <a:ext cx="18288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osphe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g0, Hg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581280"/>
            <a:ext cx="2666880" cy="3988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weathering, dis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876920"/>
            <a:ext cx="2514600" cy="128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source dischar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nicipal,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581280"/>
            <a:ext cx="1143000" cy="87696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g/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876920"/>
            <a:ext cx="1447560" cy="876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g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876920"/>
            <a:ext cx="1295280" cy="830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H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g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67480" y="4876920"/>
            <a:ext cx="1219320" cy="830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g/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2209680"/>
            <a:ext cx="1295280" cy="1242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g/kg-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380988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001000" y="3429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666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6668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4191120"/>
            <a:ext cx="2666880" cy="3988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pesticid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4343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Sources and S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1981080"/>
          <a:ext cx="8382240" cy="4403880"/>
        </p:xfrm>
        <a:graphic>
          <a:graphicData uri="http://schemas.openxmlformats.org/drawingml/2006/table">
            <a:tbl>
              <a:tblPr/>
              <a:tblGrid>
                <a:gridCol w="1676520"/>
                <a:gridCol w="2133720"/>
                <a:gridCol w="2209680"/>
                <a:gridCol w="23623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est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buta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n Water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cury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mospheric Deposition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eather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mospheric Deposition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noff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o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mospheric Deposition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butary Load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 Source Lo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2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cury Sin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ction and Volatilization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noff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osion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c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ction and Volatilization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ective Ex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ction and Volatilization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tling and Burial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ective Ex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Calibration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1981080"/>
          <a:ext cx="8915400" cy="4370400"/>
        </p:xfrm>
        <a:graphic>
          <a:graphicData uri="http://schemas.openxmlformats.org/drawingml/2006/table">
            <a:tbl>
              <a:tblPr/>
              <a:tblGrid>
                <a:gridCol w="1782720"/>
                <a:gridCol w="2171880"/>
                <a:gridCol w="2217600"/>
                <a:gridCol w="2743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est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buta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n Water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ibration 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g deposition fluxe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gT (soi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gT (water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Hg (wat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gT (water, sediment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Hg (water, sediment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S, Bulk density, 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ibration Parame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ction rat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ding his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ction rat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tion MeH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ction rat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hylation rate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ethylation rate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tion coefficient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tling and burial r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ertainty in dry de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ce of weathering / dis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shed 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layer vs. Soil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ching / groundwater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ion of erosion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ion of reduction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ion of solids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 Issu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body model calib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ylation (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eH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vs.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sonal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accumulation (BA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vs.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ed vs. Unfilte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column vs. Benthic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ered Vs. Unfiltered Data for Calculating Site-specific B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11360" y="2174760"/>
                <a:ext cx="7980120" cy="468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s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rg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centr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tectiv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um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eal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QT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rcur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rg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centr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ad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F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oaccumu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ct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lter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ish</m:t>
                            </m:r>
                          </m:num>
                          <m:den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Hg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s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ish</m:t>
                            </m:r>
                          </m:num>
                          <m:den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Hg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F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oaccumu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ct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filter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ish</m:t>
                            </m:r>
                          </m:num>
                          <m:den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Hg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AF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Dis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QT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Hg</m:t>
                            </m:r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s</m:t>
                            </m:r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F</m:t>
                            </m:r>
                            <m:r>
                              <m:t xml:space="preserve">f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Hg</m:t>
                            </m:r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F</m:t>
                            </m:r>
                            <m:r>
                              <m:t xml:space="preserve">u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ificance of Weathered Mercury in Base Flow – Savannah Ri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average loading: 14,267 g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ought loading: 1327 g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mental base flow, Augusta – Ebenezer Creek: 45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water concentration: 0.1 n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flow loading: 142 g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% of drought 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% of average 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4648320"/>
            <a:ext cx="6705720" cy="1752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3048120"/>
            <a:ext cx="2133360" cy="1600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cury TMDL Computational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676520"/>
            <a:ext cx="25909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ospheric emis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, anthropogen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global, regional, lo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1676520"/>
            <a:ext cx="18288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osphe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g0, Hg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3581280"/>
            <a:ext cx="2666880" cy="3988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weathering, dis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876920"/>
            <a:ext cx="2514600" cy="128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source dischar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nicipal,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581280"/>
            <a:ext cx="1143000" cy="87696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g/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4876920"/>
            <a:ext cx="1447560" cy="876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g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4876920"/>
            <a:ext cx="1295280" cy="830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H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g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4876920"/>
            <a:ext cx="1219320" cy="830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3 ug/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2209680"/>
            <a:ext cx="1295280" cy="15170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0001 mg/kg-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380988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001000" y="37335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666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26668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5410080"/>
            <a:ext cx="83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eH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5410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53280" y="396252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W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943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W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5943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W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5943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4191120"/>
            <a:ext cx="2666880" cy="3988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pesticid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4343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Constraints in Applied Regulatory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2895480"/>
            <a:ext cx="6324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or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fic cred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Modules for Mercury TMD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scape model: WCS – mercury ext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butary model: spreadsheet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ver model: WASP5 configured for merc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accumulation factor: empirical data or BASS food web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Watershed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2209680"/>
            <a:ext cx="0" cy="120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65360" y="3419640"/>
            <a:ext cx="1817640" cy="59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5000760"/>
            <a:ext cx="2209680" cy="59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butar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83000" y="3551400"/>
            <a:ext cx="3527280" cy="132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83000" y="4013280"/>
            <a:ext cx="293688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828800" y="2209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720" y="167652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potran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8720" y="396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5520" y="45720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5440" y="45720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98240" y="167652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2362320"/>
            <a:ext cx="167616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vious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3276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13372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5638680"/>
            <a:ext cx="5257800" cy="10159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S Curve Number Hyd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Universal Soil Loss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shed Mercury Proc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2819520"/>
            <a:ext cx="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65360" y="3419640"/>
            <a:ext cx="1817640" cy="59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gII in 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89720" y="5000760"/>
            <a:ext cx="1817640" cy="59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gII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83000" y="3551400"/>
            <a:ext cx="3146400" cy="132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83000" y="4013280"/>
            <a:ext cx="2994120" cy="12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828800" y="2742840"/>
            <a:ext cx="0" cy="59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3640" y="1905120"/>
            <a:ext cx="201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Vola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7960" y="396252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7760" y="45720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48006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6320" y="1752480"/>
            <a:ext cx="149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mosphe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t &amp; d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077320" y="4343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35200" y="3657600"/>
            <a:ext cx="201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Vola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2666880"/>
            <a:ext cx="167616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vious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286000"/>
            <a:ext cx="1524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3505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savannah" descr=""/>
          <p:cNvPicPr/>
          <p:nvPr/>
        </p:nvPicPr>
        <p:blipFill>
          <a:blip r:embed="rId1"/>
          <a:stretch/>
        </p:blipFill>
        <p:spPr>
          <a:xfrm>
            <a:off x="762120" y="0"/>
            <a:ext cx="8076960" cy="6130800"/>
          </a:xfrm>
          <a:prstGeom prst="rect">
            <a:avLst/>
          </a:prstGeom>
          <a:ln w="0">
            <a:noFill/>
          </a:ln>
        </p:spPr>
      </p:pic>
      <p:pic>
        <p:nvPicPr>
          <p:cNvPr id="136" name="Image1" descr=""/>
          <p:cNvPicPr/>
          <p:nvPr/>
        </p:nvPicPr>
        <p:blipFill>
          <a:blip r:embed="rId2"/>
          <a:stretch/>
        </p:blipFill>
        <p:spPr>
          <a:xfrm>
            <a:off x="7010280" y="838080"/>
            <a:ext cx="1346400" cy="11480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wcs_1" descr=""/>
          <p:cNvPicPr/>
          <p:nvPr/>
        </p:nvPicPr>
        <p:blipFill>
          <a:blip r:embed="rId1"/>
          <a:srcRect l="0" t="15886" r="0" b="0"/>
          <a:stretch/>
        </p:blipFill>
        <p:spPr>
          <a:xfrm>
            <a:off x="1219320" y="1752480"/>
            <a:ext cx="7467480" cy="43941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ineation of the Ochlockonee Watersh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8:33:57Z</dcterms:created>
  <dc:creator>Robert B. Ambrose, Jr.</dc:creator>
  <dc:description/>
  <dc:language>en-US</dc:language>
  <cp:lastModifiedBy>Robert B. Ambrose, Jr.</cp:lastModifiedBy>
  <dcterms:modified xsi:type="dcterms:W3CDTF">2001-05-22T18:36:28Z</dcterms:modified>
  <cp:revision>43</cp:revision>
  <dc:subject/>
  <dc:title>Tools for Conducting Mercury TMDLs in Georgia Watersheds</dc:title>
</cp:coreProperties>
</file>