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D0A-CEA7-4C70-BC6B-3FD73B24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E28-2A58-4C57-B4DF-CC4B7563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6A1-0CA0-4001-88E5-1618DA62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EBA-8205-40B5-9093-A984D1EC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CA43-5D68-40F2-88F0-1A686F56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5EAC-1042-442F-BB2B-E6F280C5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ACF8-ECEE-48FA-8D54-ABD1E5F9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EAF-C80E-40C2-81D7-407DB01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BF50-BDAA-423C-9BC9-5BCD1A7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56A4-785E-49BD-B2B6-5E6B00D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51BD-9767-459D-98DF-CA4F0AB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072-04C9-4F23-A6C0-27F872A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81B7-5E56-44B1-B1AC-A596F14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340E-C2FE-4B8F-BFA2-F925858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D4A6-BE26-4805-90D1-E563E24D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F11-FD74-4FEB-9047-E19FCF80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1D4-B589-49C0-BD78-4D063EEB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90B-63D4-4BB2-8AB1-7C36021E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E83-FACB-49C2-97EC-92D581C2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44A-5A52-49A3-B42D-B7D4B8D0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87B-FBE0-4732-B8EB-E1F29B7F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88C-D8D8-4403-8B0A-DF6EAAD6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5C1-E3D7-4B8D-BBD7-B80D682C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1A2-4160-4334-96F1-08C521E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F8AA-255B-46F3-9C59-13686A0D5483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DDA-14FD-40A0-8F53-7ED1C21C1E8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eloping Monitoring Plans to Support Water Quality Model Develo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Water Quality Proble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Pollutant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vent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c Chemi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Water Quality Stand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xim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ily Aver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Impact"/>
              </a:rPr>
              <a:t>Water Quality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Impact"/>
              </a:rPr>
              <a:t>Stand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What is the Water Quality Stand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ever less than 4 mg/l DO (Absolute Valu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aily Average of 5 mg/l (Allows for Diurnal Var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bination of the Abo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What Standard is Applicable for the Development of the TMD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What ever is Targeted must be protec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oes Targeting the Absolute protect the Daily Averag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It Ma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It May No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895480" cy="189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lecting Transport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lo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GS G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ference G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im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el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te Specific Monitor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me of Travel (Dye Studi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ter Quality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utroph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mmonia, Nitrate, Organic Nitro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thophosphate, Total Phosph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solved Oxy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BOD (Ultimate, 5-Da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lorophyll-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xica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emical (Water Column/Bentho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diment Concentr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ter Quality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undary Con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e Monitoring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OR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l Govern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Source Discharg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e DMR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point Sou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eld Measur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tershed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plistic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276720"/>
            <a:ext cx="7315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81240" y="3809880"/>
            <a:ext cx="755280" cy="1389960"/>
            <a:chOff x="1281240" y="3809880"/>
            <a:chExt cx="755280" cy="1389960"/>
          </a:xfrm>
        </p:grpSpPr>
        <p:sp>
          <p:nvSpPr>
            <p:cNvPr id="140" name=""/>
            <p:cNvSpPr/>
            <p:nvPr/>
          </p:nvSpPr>
          <p:spPr>
            <a:xfrm flipV="1">
              <a:off x="1600200" y="3809880"/>
              <a:ext cx="304920" cy="990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81240" y="486252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POTW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66680" y="2400480"/>
            <a:ext cx="7315200" cy="419040"/>
            <a:chOff x="1066680" y="2400480"/>
            <a:chExt cx="7315200" cy="419040"/>
          </a:xfrm>
        </p:grpSpPr>
        <p:sp>
          <p:nvSpPr>
            <p:cNvPr id="143" name=""/>
            <p:cNvSpPr/>
            <p:nvPr/>
          </p:nvSpPr>
          <p:spPr>
            <a:xfrm>
              <a:off x="1066680" y="2819520"/>
              <a:ext cx="7315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77840" y="2400480"/>
              <a:ext cx="32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imes New Roman"/>
                </a:rPr>
                <a:t>Approximately 10 Mile Segm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981080" y="3276720"/>
            <a:ext cx="2895840" cy="1419480"/>
            <a:chOff x="1981080" y="3276720"/>
            <a:chExt cx="2895840" cy="1419480"/>
          </a:xfrm>
        </p:grpSpPr>
        <p:sp>
          <p:nvSpPr>
            <p:cNvPr id="146" name=""/>
            <p:cNvSpPr/>
            <p:nvPr/>
          </p:nvSpPr>
          <p:spPr>
            <a:xfrm>
              <a:off x="1981080" y="3276720"/>
              <a:ext cx="2895840" cy="45720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819160" y="2971440"/>
              <a:ext cx="533520" cy="221004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42600" y="441972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imes New Roman"/>
                </a:rPr>
                <a:t>Impaired Segmen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578040" y="4572000"/>
            <a:ext cx="48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bably Cause of Impair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BO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Nutrient Enrichme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2133720"/>
            <a:ext cx="106704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2057400"/>
            <a:ext cx="106668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1040" y="1413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npo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2:15:53Z</dcterms:created>
  <dc:creator>Tim</dc:creator>
  <dc:description/>
  <dc:language>en-US</dc:language>
  <cp:lastModifiedBy>Tim</cp:lastModifiedBy>
  <dcterms:modified xsi:type="dcterms:W3CDTF">2002-06-28T12:33:01Z</dcterms:modified>
  <cp:revision>5</cp:revision>
  <dc:subject/>
  <dc:title>Developing Monitoring Plans to Support Water Quality Model Development</dc:title>
</cp:coreProperties>
</file>