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D82-1E3A-46D4-9496-F08E3565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CA8-1E9F-4494-9F05-AC7BB54B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D49-751E-402B-BC20-5255D1CF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225-83A4-4B43-BFCA-EF7D87F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9C6-CB0D-4152-A1F3-1161BA2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272-4641-4E39-99E0-9C51A50A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2F5-FC01-46F6-975F-41C538C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027-1150-45BD-A271-AD2754F5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09A-31C9-4B33-9EA7-DDDC686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E6D-B373-4460-BA97-6341806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02C-205F-45AB-B3D2-85A0C39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67F-102C-403B-865C-7C90385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B03-1E92-4C13-B4D2-29C46061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nt Creek SOD Red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tra Tech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471600"/>
            <a:ext cx="8642160" cy="591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3040" y="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nd TOC from WASP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471600"/>
            <a:ext cx="8642160" cy="591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59440" y="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Series from WASP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71600"/>
            <a:ext cx="8642160" cy="591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5960" y="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orus Series from WASP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O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7960" y="471600"/>
            <a:ext cx="8668080" cy="5918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4880" y="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 for Existing Conditions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124080"/>
            <a:ext cx="723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800240" y="312372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43200" y="14475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14475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1240" y="12193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3920" y="12193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4419720"/>
            <a:ext cx="4206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Measured a 3.3 on June 5, 1996 at FC11 (near Sit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7960" y="471600"/>
            <a:ext cx="8668080" cy="5918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840" y="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 Reductions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09640" y="373392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48040" y="3733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886200"/>
            <a:ext cx="26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these curves to pick off an SOD to run in TMDL scenarios for DO comparisons in emb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4960" y="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ackwater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963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D In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QEA Sediment Flux Model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period = 1993 and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brated EFD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average flow an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brated WASP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average BOD5 converted to TOC using multiplier of 13 (from South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average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average nitrogen and phosph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aterquality_fig2-3" descr=""/>
          <p:cNvPicPr/>
          <p:nvPr/>
        </p:nvPicPr>
        <p:blipFill>
          <a:blip r:embed="rId1"/>
          <a:stretch/>
        </p:blipFill>
        <p:spPr>
          <a:xfrm>
            <a:off x="762120" y="735120"/>
            <a:ext cx="7924680" cy="612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6120" y="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Map of Flow and WQ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5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te 4 as the upstream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oint%20source" descr=""/>
          <p:cNvPicPr/>
          <p:nvPr/>
        </p:nvPicPr>
        <p:blipFill>
          <a:blip r:embed="rId1"/>
          <a:stretch/>
        </p:blipFill>
        <p:spPr>
          <a:xfrm>
            <a:off x="685800" y="735120"/>
            <a:ext cx="7924680" cy="612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41040" y="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Map of Poin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5334120" y="304776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2560" y="2971800"/>
            <a:ext cx="659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14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21320" y="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DC and WASP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647600" y="1523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3240" y="1066680"/>
            <a:ext cx="659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6194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0720" y="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SOD Used in WASP Cal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959000" y="1479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4640" y="1022400"/>
            <a:ext cx="659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86720" cy="596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1880" y="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P Calibration for 1993-1994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7960" y="471600"/>
            <a:ext cx="8668080" cy="591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0880" y="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and Temp from EFDC at Si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4:05:45Z</dcterms:created>
  <dc:creator>Steven R. Davie</dc:creator>
  <dc:description/>
  <dc:language>en-US</dc:language>
  <cp:lastModifiedBy>Steven R. Davie</cp:lastModifiedBy>
  <dcterms:modified xsi:type="dcterms:W3CDTF">2003-05-16T06:01:21Z</dcterms:modified>
  <cp:revision>3</cp:revision>
  <dc:subject/>
  <dc:title>Flint Creek SOD Reductions</dc:title>
</cp:coreProperties>
</file>