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E46-9C3C-4A24-A7A4-45FF9C8D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1EDE-2711-4350-9AC6-D9EE81F3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E18-EED3-4774-815B-F4CBF66E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6D1-3B2C-4185-A5C0-FB3BD7E4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0FB0-5578-4FED-9671-BFB74A68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3EF-8468-40B1-BB5E-0ABA15AE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606C-2891-47A6-AB7D-7B6E8FB8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19A-5E09-42B1-B198-E13B4EBD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139-6EDF-4C48-B373-08486333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1FAD-3954-4274-990C-BE00CA2D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86A-F8C9-4B9C-9A89-60F0EFE5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2483-59C4-4B88-87DF-01C6AD4F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D0BA-9FAF-4201-9DF3-5BEB30EAB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2895480"/>
            <a:ext cx="81993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bert B. Ambrose, Jr., P.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Office of Research and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National Exposure Research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Ecosystems Research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thens, 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pril 5, 2005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762120"/>
            <a:ext cx="86108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odeling Mercury Fate and Trans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 Watersheds and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500"/>
                            </p:stCondLst>
                            <p:childTnLst>
                              <p:par>
                                <p:cTn id="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50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er Creek Loading Flux Build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3055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per Brier Cree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ading Flux Atten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ading Flux Attenuation with Impervious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cury Dynamics 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lled versus Untilled So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14400" y="1828800"/>
          <a:ext cx="7315200" cy="34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31520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990720" y="57913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using simple spreadsheet derived from IEM-Hg from Mercury Report to Con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Body Mercury Build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5478480" cy="3873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657600" y="3554280"/>
            <a:ext cx="548640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 Results for 2002 Survey – HgT in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1486080"/>
            <a:ext cx="701028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 Results for 2002 Survey – MeHg in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93432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1828800"/>
          <a:ext cx="8763120" cy="4356000"/>
        </p:xfrm>
        <a:graphic>
          <a:graphicData uri="http://schemas.openxmlformats.org/drawingml/2006/table">
            <a:tbl>
              <a:tblPr/>
              <a:tblGrid>
                <a:gridCol w="1703520"/>
                <a:gridCol w="730080"/>
                <a:gridCol w="961920"/>
                <a:gridCol w="986040"/>
                <a:gridCol w="973080"/>
                <a:gridCol w="1112760"/>
                <a:gridCol w="992160"/>
                <a:gridCol w="1044720"/>
                <a:gridCol w="258840"/>
              </a:tblGrid>
              <a:tr h="5205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ver S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g/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g/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H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g/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H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g/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H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H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01 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02 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01 sedi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+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02 sedi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+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L or 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ed Sedi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cury Atten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915400" cy="53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ed Upstrea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cury Atten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1469880"/>
            <a:ext cx="762012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666880"/>
            <a:ext cx="81993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Brier Creek Mercury TMDL, August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RIA Chapter 3 – Ecosystem Scale Modeling for Mercury Benefits Analysis, March 2005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762120"/>
            <a:ext cx="86108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odeling Mercury Dyna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 Brier Creek, 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ed Downstrea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cury Atten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543800" cy="53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2209680"/>
            <a:ext cx="8199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ss balance modeling technology is available for analyzing mercury dynamics in str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resent modeling requires site-specific mercury data along with ancillary chemical and environmental data for cal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urther advances in scientific knowledge are needed to better parameterize key processes and predict response to proposed management scen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762120"/>
            <a:ext cx="86108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er Creek Watersh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16491" r="0" b="0"/>
          <a:stretch/>
        </p:blipFill>
        <p:spPr>
          <a:xfrm>
            <a:off x="457200" y="1654200"/>
            <a:ext cx="81532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er Creek Subwatersh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11779" r="0" b="0"/>
          <a:stretch/>
        </p:blipFill>
        <p:spPr>
          <a:xfrm>
            <a:off x="609480" y="1285920"/>
            <a:ext cx="792504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er Creek Land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11779" r="0" b="0"/>
          <a:stretch/>
        </p:blipFill>
        <p:spPr>
          <a:xfrm>
            <a:off x="762120" y="1352520"/>
            <a:ext cx="80010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 Deposition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7724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Atmospheric De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929120"/>
        </p:xfrm>
        <a:graphic>
          <a:graphicData uri="http://schemas.openxmlformats.org/drawingml/2006/table">
            <a:tbl>
              <a:tblPr/>
              <a:tblGrid>
                <a:gridCol w="1447920"/>
                <a:gridCol w="2666880"/>
                <a:gridCol w="2133720"/>
                <a:gridCol w="1981080"/>
              </a:tblGrid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ion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 Conc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cipi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g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 D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ug/m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y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81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efenokee National Wildlife Refu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fferson Str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rk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annah Ri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garee Swa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.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2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Rate Coeffic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732200"/>
        </p:xfrm>
        <a:graphic>
          <a:graphicData uri="http://schemas.openxmlformats.org/drawingml/2006/table">
            <a:tbl>
              <a:tblPr/>
              <a:tblGrid>
                <a:gridCol w="1628640"/>
                <a:gridCol w="2657520"/>
                <a:gridCol w="1971720"/>
                <a:gridCol w="1971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ar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ficient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atil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 - 3.0 day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cal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x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1 day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(I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 su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 colum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 day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-0.05 (cal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1 day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di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5 day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tioning to si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edi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H 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tioning to s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edi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H 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tioning to D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edi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H 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methylation to Hg(I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di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5 day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methylation to Hg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 su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 colum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5 day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5 – 0.0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tioning to si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edi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H 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tioning to s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edi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H 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tioning to D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edi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H 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per Brier Creek Soi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cury Build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660680"/>
          <a:ext cx="9144000" cy="501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60680"/>
                    <a:ext cx="914400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9:58:01Z</dcterms:created>
  <dc:creator>RAMBROSE</dc:creator>
  <dc:description/>
  <dc:language>en-US</dc:language>
  <cp:lastModifiedBy>RAMBROSE</cp:lastModifiedBy>
  <dcterms:modified xsi:type="dcterms:W3CDTF">2005-07-13T13:15:02Z</dcterms:modified>
  <cp:revision>42</cp:revision>
  <dc:subject/>
  <dc:title>Modeling Metals Fate and Transport in Streams Using the EPA Water Quality Analysis Simulation Program</dc:title>
</cp:coreProperties>
</file>