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5B7A-D7F1-4629-B22A-D4A3666B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F73-EEF7-4B91-AC49-31B49DB4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39BF-8E6A-466B-AC8A-4855F9E6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91B-6BE3-4F88-AD55-1679995E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6078-4428-4309-8802-EB20303D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5BEA-1FC3-47E9-A75E-A4052494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D3C1-C659-4B74-83F6-5024C756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9B79-FE60-41F0-8D1B-006FB53F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FD68-9FB6-461C-93A1-73D3DEDC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3F81-B04C-4C1C-8EEE-DFA87B46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D3A9-1335-4C02-BE45-593631E8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BB6-92DF-4054-90DA-A77D8A3E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E27B-61E6-48E2-9494-C74A3B53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F0BF-562D-4C37-BB0D-05557465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1D7F-C3E2-4BFF-B5D2-4562BCF4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79B9-0896-4B67-91E0-1FCEE6EF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7FAD-E88A-489E-9B84-6E757C2D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62C-DFEE-4390-9766-998A58A1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D99-B30A-4540-A7BC-3EFDFB0A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3A3-007D-4EB7-8E70-8EEEA53B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653-805D-4266-B5B7-C8B95755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632-1CC1-4521-92A9-2B2B0FDF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0AA-9D32-4D19-9F89-9AF1A79D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86E7-B6FC-412C-8A90-5FC646B7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83AA-A61C-406C-868F-2D934C472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 MT Extra Bold"/>
              </a:rPr>
              <a:t>Watershed &amp; Water Quality Modeling Technical Support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75DA-F133-4912-A67F-7278BD6D5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rption and Equilibrium Partition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Process Equations and Model Inpu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rption Input Dat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295280"/>
            <a:ext cx="5029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 “Constants Da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 1,2,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OW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- K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OC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OW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- K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OC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id 1, 2, an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Times New Roman"/>
              </a:rPr>
              <a:t>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657600" y="1295280"/>
            <a:ext cx="542880" cy="511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495680" y="1305000"/>
            <a:ext cx="4496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 “Parameter Da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n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solved Organic Carbon [mg/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ction Organic Carbon for Solids 1, 2, and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305920" y="1295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724280" y="3733920"/>
            <a:ext cx="42674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 “Segments Da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solved Organic Carbon [mg/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ction Organic Carbon for Solids 1, 2, and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381880" y="3809880"/>
            <a:ext cx="5382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64422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885840" y="609480"/>
            <a:ext cx="106668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04920"/>
            <a:ext cx="3812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1219320"/>
            <a:ext cx="838080" cy="190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144792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16765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40"/>
                </a:lnTo>
                <a:cubicBezTo>
                  <a:pt x="10800" y="10440"/>
                  <a:pt x="5400" y="11340"/>
                  <a:pt x="0" y="11340"/>
                </a:cubicBezTo>
                <a:cubicBezTo>
                  <a:pt x="5400" y="11340"/>
                  <a:pt x="10800" y="12240"/>
                  <a:pt x="10800" y="1314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2971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40"/>
                </a:lnTo>
                <a:cubicBezTo>
                  <a:pt x="10800" y="10440"/>
                  <a:pt x="5400" y="11340"/>
                  <a:pt x="0" y="11340"/>
                </a:cubicBezTo>
                <a:cubicBezTo>
                  <a:pt x="5400" y="11340"/>
                  <a:pt x="10800" y="12240"/>
                  <a:pt x="10800" y="1314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05040" y="4343400"/>
            <a:ext cx="152640" cy="129528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40"/>
                </a:lnTo>
                <a:cubicBezTo>
                  <a:pt x="10800" y="10440"/>
                  <a:pt x="5400" y="11340"/>
                  <a:pt x="0" y="11340"/>
                </a:cubicBezTo>
                <a:cubicBezTo>
                  <a:pt x="5400" y="11340"/>
                  <a:pt x="10800" y="12240"/>
                  <a:pt x="10800" y="1314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7520" y="2133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emic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2720" y="35053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emic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6760" y="48261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emica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232416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68316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41400" y="5016600"/>
            <a:ext cx="838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58160" cy="5686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8120" y="380880"/>
            <a:ext cx="38088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437920" y="68580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080" y="1371600"/>
            <a:ext cx="1259640" cy="91692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s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507960"/>
            <a:ext cx="18288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urn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or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22860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2819520"/>
            <a:ext cx="2286000" cy="533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2320" y="5029200"/>
            <a:ext cx="1082880" cy="91692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rb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447920" y="3352320"/>
            <a:ext cx="1143000" cy="2133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2286000"/>
            <a:ext cx="5335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76760" y="2381400"/>
            <a:ext cx="4467240" cy="4476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rot="1485600">
            <a:off x="4038120" y="3505320"/>
            <a:ext cx="2308320" cy="920520"/>
          </a:xfrm>
          <a:prstGeom prst="rightArrow">
            <a:avLst>
              <a:gd name="adj1" fmla="val 50000"/>
              <a:gd name="adj2" fmla="val 626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on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4057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095560" y="2952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066680" y="533520"/>
            <a:ext cx="106704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16002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4952880"/>
            <a:ext cx="1828800" cy="119124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raction Organic Carbon for Solids Typ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73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114560"/>
            <a:ext cx="828720" cy="276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228600"/>
            <a:ext cx="2133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T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“Segm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00400" y="1676160"/>
            <a:ext cx="228600" cy="32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486400" y="1599840"/>
            <a:ext cx="0" cy="3352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7315200" y="1676520"/>
            <a:ext cx="457200" cy="3200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295280"/>
            <a:ext cx="236232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295280"/>
            <a:ext cx="16002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1295280"/>
            <a:ext cx="220968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105520"/>
            <a:ext cx="1828800" cy="91692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ssolved Organic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066680" y="1676160"/>
            <a:ext cx="685800" cy="3429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4952880"/>
            <a:ext cx="1828800" cy="119124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raction Organic Carbon for Solids Typ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4876920"/>
            <a:ext cx="1828800" cy="119124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raction Organic Carbon for Solids Typ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rp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31237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 of chemical between the dissolved phase and particulate or solid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emical may be physically associated or chemically bound through attachment to functional groups on the surface of the sol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143000"/>
            <a:ext cx="5791320" cy="1981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19810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1752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d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1600200"/>
            <a:ext cx="1143000" cy="1447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1752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1981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mportant Facto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tics of the Chem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neutral organics sorption is related to the hydrophobicity of the sol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tics of the 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ze (sand, silt, cl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fic surface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ion exchange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c Carbon 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tics of the Aqueous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ce of dissolved &amp; colloidal organics such-as hum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mplications of Sorp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bial degradation rates can be al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atilization is dimin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photolysis is inhib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is al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rption Assump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etic Equilib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le models assu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e of adsorption &gt;&gt; any other transport or kinetic process affecting the chem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time scale of all other processes sorption appears to be at equilibri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kinetics are not considered.  Sorption is instantaneo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444600"/>
            <a:ext cx="6858000" cy="6394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sorption Isotherm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20360" y="1371600"/>
            <a:ext cx="148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 Isoth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590920" y="1676520"/>
                <a:ext cx="1295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orbed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dissolved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 rot="16200000">
            <a:off x="-613800" y="361044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sorb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mg sorbed/kg sol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1800" y="649116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dissolv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mg dissolved/L wate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10560" y="266688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undlich Isoth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029200" y="2971800"/>
                <a:ext cx="1432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orbed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ssolved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781680" y="4086360"/>
                <a:ext cx="2133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orbed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dissolved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olid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6711480" y="3790800"/>
            <a:ext cx="175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gmuir Isoth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asic Relationsh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32080" y="79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9040" y="1219320"/>
            <a:ext cx="606492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P uses Linear Sorption Equilibrium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Partition Coefficient [L/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Times New Roman"/>
              </a:rPr>
              <a:t>dissol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Dissolved Chemical [mg/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Times New Roman"/>
              </a:rPr>
              <a:t>sorb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Sorbed Chemical [mg/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24480" y="1905120"/>
                <a:ext cx="1828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orbed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dissolved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228600" y="3276720"/>
            <a:ext cx="8686800" cy="35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Chemical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is sum of sorbed/particulate and dissolved chem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d,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Partition Coefficient associated with solid particle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[L/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number of solid particl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porosity [liquid volume/total volum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Concentration of Solid Particle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[mg/m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Times New Roman"/>
              </a:rPr>
              <a:t>dissol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Times New Roman"/>
              </a:rPr>
              <a:t>dissol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issolved Chemical Associated with Environment,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olids + water) [mg/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Times New Roman"/>
              </a:rPr>
              <a:t>particul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Times New Roman"/>
              </a:rPr>
              <a:t>sorb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hemical Sorbed to Solid Particle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mg/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395440" y="3581280"/>
                <a:ext cx="28274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orbed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dissolve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asic Relationsh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09480" y="1406520"/>
            <a:ext cx="8305200" cy="4557960"/>
            <a:chOff x="609480" y="1406520"/>
            <a:chExt cx="8305200" cy="4557960"/>
          </a:xfrm>
        </p:grpSpPr>
        <p:grpSp>
          <p:nvGrpSpPr>
            <p:cNvPr id="127" name=""/>
            <p:cNvGrpSpPr/>
            <p:nvPr/>
          </p:nvGrpSpPr>
          <p:grpSpPr>
            <a:xfrm>
              <a:off x="609480" y="1406520"/>
              <a:ext cx="8305200" cy="4557960"/>
              <a:chOff x="609480" y="1406520"/>
              <a:chExt cx="8305200" cy="455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609480" y="1406520"/>
                <a:ext cx="8305200" cy="455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Fractional Representation of Dissolved and Sorbed Concentr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fining the fraction dissolved and sorbed 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C</a:t>
                </a:r>
                <a:r>
                  <a:rPr b="0" i="1" lang="en-US" sz="1800" spc="-1" strike="noStrike" baseline="-25000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i="1" lang="en-US" sz="1800" spc="-1" strike="noStrike" baseline="30000">
                    <a:solidFill>
                      <a:srgbClr val="ffff00"/>
                    </a:solidFill>
                    <a:latin typeface="Times New Roman"/>
                  </a:rPr>
                  <a:t>dissolved</a:t>
                </a: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= f</a:t>
                </a:r>
                <a:r>
                  <a:rPr b="0" i="1" lang="en-US" sz="1800" spc="-1" strike="noStrike" baseline="-25000">
                    <a:solidFill>
                      <a:srgbClr val="ffff00"/>
                    </a:solidFill>
                    <a:latin typeface="Times New Roman"/>
                  </a:rPr>
                  <a:t>d</a:t>
                </a: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C</a:t>
                </a:r>
                <a:r>
                  <a:rPr b="0" i="1" lang="en-US" sz="1800" spc="-1" strike="noStrike" baseline="-25000">
                    <a:solidFill>
                      <a:srgbClr val="ffff00"/>
                    </a:solidFill>
                    <a:latin typeface="Times New Roman"/>
                  </a:rPr>
                  <a:t>T</a:t>
                </a:r>
                <a:r>
                  <a:rPr b="0" i="1" lang="en-US" sz="1800" spc="-1" strike="noStrike" baseline="-25000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i="1" lang="en-US" sz="1800" spc="-1" strike="noStrike" baseline="-25000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i="1" lang="en-US" sz="18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nd   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C</a:t>
                </a:r>
                <a:r>
                  <a:rPr b="0" i="1" lang="en-US" sz="1800" spc="-1" strike="noStrike" baseline="-25000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i="1" lang="en-US" sz="1800" spc="-1" strike="noStrike" baseline="30000">
                    <a:solidFill>
                      <a:srgbClr val="ffff00"/>
                    </a:solidFill>
                    <a:latin typeface="Times New Roman"/>
                  </a:rPr>
                  <a:t>sorbed</a:t>
                </a: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= f</a:t>
                </a:r>
                <a:r>
                  <a:rPr b="0" i="1" lang="en-US" sz="1800" spc="-1" strike="noStrike" baseline="-25000">
                    <a:solidFill>
                      <a:srgbClr val="ffff00"/>
                    </a:solidFill>
                    <a:latin typeface="Times New Roman"/>
                  </a:rPr>
                  <a:t>P,i</a:t>
                </a: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C</a:t>
                </a:r>
                <a:r>
                  <a:rPr b="0" i="1" lang="en-US" sz="1800" spc="-1" strike="noStrike" baseline="-25000">
                    <a:solidFill>
                      <a:srgbClr val="ffff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en each fraction can be represented b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9" name=""/>
                  <p:cNvSpPr txBox="1"/>
                  <p:nvPr/>
                </p:nvSpPr>
                <p:spPr>
                  <a:xfrm>
                    <a:off x="3104640" y="3351240"/>
                    <a:ext cx="2562840" cy="84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 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3019680" y="4657680"/>
                  <a:ext cx="2904480" cy="9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 </m:t>
                              </m:r>
                            </m:sub>
                          </m:sSub>
                        </m:num>
                        <m:den>
                          <m:r>
                            <m:t xml:space="preserve">θ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 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ydrophobic Organic Sorp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25424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s = Organic Matter on Parti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O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*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0520" y="2274840"/>
            <a:ext cx="5221440" cy="4596840"/>
            <a:chOff x="20520" y="2274840"/>
            <a:chExt cx="5221440" cy="4596840"/>
          </a:xfrm>
        </p:grpSpPr>
        <p:grpSp>
          <p:nvGrpSpPr>
            <p:cNvPr id="134" name=""/>
            <p:cNvGrpSpPr/>
            <p:nvPr/>
          </p:nvGrpSpPr>
          <p:grpSpPr>
            <a:xfrm>
              <a:off x="20520" y="2274840"/>
              <a:ext cx="5221440" cy="4549680"/>
              <a:chOff x="20520" y="2274840"/>
              <a:chExt cx="5221440" cy="4549680"/>
            </a:xfrm>
          </p:grpSpPr>
          <p:pic>
            <p:nvPicPr>
              <p:cNvPr id="13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5800" y="2274840"/>
                <a:ext cx="4826160" cy="424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 rot="16200000">
                <a:off x="-2033640" y="4329360"/>
                <a:ext cx="454968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og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O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63600" y="6431040"/>
              <a:ext cx="487692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g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181480" y="2274840"/>
            <a:ext cx="3916440" cy="27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 betwe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S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C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41*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ickhof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C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log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0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warzenb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C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72 log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0.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5:57:45Z</dcterms:created>
  <dc:creator>CKNIGHTES</dc:creator>
  <dc:description/>
  <dc:language>en-US</dc:language>
  <cp:lastModifiedBy>RAMBROSE</cp:lastModifiedBy>
  <dcterms:modified xsi:type="dcterms:W3CDTF">2005-07-12T14:45:33Z</dcterms:modified>
  <cp:revision>21</cp:revision>
  <dc:subject/>
  <dc:title>Organic Chemical Model</dc:title>
</cp:coreProperties>
</file>