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5EE-BA69-4376-A2B4-25E80102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BEF-4CF9-4030-8EB5-4B0740E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5C6-E491-4E62-BC60-7A035C01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339-28B4-49F1-B1EE-6EBA745C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482F-4BDC-42B0-85A2-8FB51C73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D98-A1A2-44F6-B9BA-0EF5723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4297-A34D-412A-8444-3662AAAE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69B-E126-48A2-BBD1-21D7842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B02A-1D6F-4106-B219-31365F28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F1EE-9C15-495C-9D74-DEC59619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F222-4C1D-4D35-862B-D7E5B1B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BA6-7AEC-49A0-A099-EE12C34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A6F1-F88A-482D-A8B1-EC9EAC7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101B-CD07-4771-A049-6BBF98A4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9FD1-A7CD-4B79-8212-AA109B9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321-6B03-4193-8112-E53765D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0527-373D-49A8-BB39-6A51C08F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72B-F51B-4062-B119-8FA2AA9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A01-359D-469E-B226-EBE08544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4E7-913B-4BB9-A212-D2D20327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B24-1831-41E0-A3F9-99382D41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CEF-D2EB-4255-B524-6456333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B8B-FA41-4BA6-8E84-341A466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8B1-00EC-436D-A3E6-4BC6A0F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4651-AFC2-4C15-A264-282E1C54C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6CFF-4294-4F59-AB2E-78327BF95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lati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5120" y="108000"/>
            <a:ext cx="205992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d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m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8664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733920" y="380880"/>
            <a:ext cx="3045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240" y="609480"/>
            <a:ext cx="121932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1295280"/>
            <a:ext cx="32004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743200"/>
            <a:ext cx="3200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352680"/>
            <a:ext cx="320040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00" y="762120"/>
            <a:ext cx="1488240" cy="146556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sso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/poi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2,3&amp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1981080"/>
            <a:ext cx="990360" cy="685800"/>
          </a:xfrm>
          <a:custGeom>
            <a:avLst/>
            <a:gdLst/>
            <a:ahLst/>
            <a:rect l="l" t="t" r="r" b="b"/>
            <a:pathLst>
              <a:path w="816" h="448">
                <a:moveTo>
                  <a:pt x="0" y="96"/>
                </a:moveTo>
                <a:cubicBezTo>
                  <a:pt x="100" y="272"/>
                  <a:pt x="200" y="448"/>
                  <a:pt x="336" y="432"/>
                </a:cubicBezTo>
                <a:cubicBezTo>
                  <a:pt x="472" y="416"/>
                  <a:pt x="736" y="72"/>
                  <a:pt x="8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838080" y="2971800"/>
            <a:ext cx="1143000" cy="1905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75160" y="914400"/>
            <a:ext cx="3892680" cy="5943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733920" y="2514600"/>
            <a:ext cx="2666880" cy="762120"/>
          </a:xfrm>
          <a:prstGeom prst="rightArrow">
            <a:avLst>
              <a:gd name="adj1" fmla="val 50000"/>
              <a:gd name="adj2" fmla="val 874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Tim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457200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l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im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6386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191120"/>
            <a:ext cx="3200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4648320"/>
            <a:ext cx="866520" cy="64260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0" y="5410080"/>
            <a:ext cx="1171440" cy="36828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r 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20" y="5867280"/>
            <a:ext cx="1436400" cy="64260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-a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143000" y="3504960"/>
            <a:ext cx="129528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371600" y="4419720"/>
            <a:ext cx="1295280" cy="175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olatilization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ss Transfer Exchange between Air and W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48320" y="1590840"/>
            <a:ext cx="3429000" cy="2597040"/>
            <a:chOff x="4648320" y="1590840"/>
            <a:chExt cx="3429000" cy="2597040"/>
          </a:xfrm>
        </p:grpSpPr>
        <p:sp>
          <p:nvSpPr>
            <p:cNvPr id="90" name=""/>
            <p:cNvSpPr/>
            <p:nvPr/>
          </p:nvSpPr>
          <p:spPr>
            <a:xfrm>
              <a:off x="5340240" y="15908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648320" y="2063520"/>
              <a:ext cx="3429000" cy="2124360"/>
              <a:chOff x="4648320" y="2063520"/>
              <a:chExt cx="3429000" cy="2124360"/>
            </a:xfrm>
          </p:grpSpPr>
          <p:sp>
            <p:nvSpPr>
              <p:cNvPr id="92" name=""/>
              <p:cNvSpPr/>
              <p:nvPr/>
            </p:nvSpPr>
            <p:spPr>
              <a:xfrm>
                <a:off x="4648320" y="2435400"/>
                <a:ext cx="3429000" cy="1752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42760" y="2752920"/>
                <a:ext cx="479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486400" y="2063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38680" y="2092320"/>
                <a:ext cx="0" cy="685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7480" y="35020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467480" y="243504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97560" y="31212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09480" y="2514600"/>
                <a:ext cx="32004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94640" y="4419720"/>
            <a:ext cx="475308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issolved Concentration in Water [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Concentration in Air [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Henry’s Law Constant [atm/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Gas Constant (8.206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m/M-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Water Temperature,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epth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Mass Transfer Coefficient, m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-Film Theory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as-Liquid Interch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440" y="3657600"/>
                <a:ext cx="2514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2809800" y="1752480"/>
            <a:ext cx="6049800" cy="4716360"/>
            <a:chOff x="2809800" y="1752480"/>
            <a:chExt cx="6049800" cy="4716360"/>
          </a:xfrm>
        </p:grpSpPr>
        <p:sp>
          <p:nvSpPr>
            <p:cNvPr id="106" name=""/>
            <p:cNvSpPr/>
            <p:nvPr/>
          </p:nvSpPr>
          <p:spPr>
            <a:xfrm>
              <a:off x="2809800" y="1752480"/>
              <a:ext cx="6019560" cy="1905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9800" y="3657600"/>
              <a:ext cx="601956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09800" y="1981080"/>
              <a:ext cx="6019560" cy="3352680"/>
              <a:chOff x="2809800" y="1981080"/>
              <a:chExt cx="6019560" cy="3352680"/>
            </a:xfrm>
          </p:grpSpPr>
          <p:sp>
            <p:nvSpPr>
              <p:cNvPr id="109" name=""/>
              <p:cNvSpPr/>
              <p:nvPr/>
            </p:nvSpPr>
            <p:spPr>
              <a:xfrm>
                <a:off x="2809800" y="2971800"/>
                <a:ext cx="601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09800" y="3657600"/>
                <a:ext cx="601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9800" y="4343400"/>
                <a:ext cx="601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0160" y="43434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800160" y="3657240"/>
                <a:ext cx="12956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5476680" y="2971440"/>
                <a:ext cx="20574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34080" y="1981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541640" y="17524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1320" y="390060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85120" y="51055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1720" y="2971800"/>
              <a:ext cx="48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1600" y="17524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1240" y="29718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s 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7320" y="36576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 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9400" y="43434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24400" y="3352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095440" y="365724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1800" y="5751360"/>
              <a:ext cx="3776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: Saturated Air Concen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: Saturated Liquid Concen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8440" y="2209680"/>
                <a:ext cx="2590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H="1">
            <a:off x="8152920" y="4572000"/>
            <a:ext cx="7621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23920" y="45720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8098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latilization Parameter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838080"/>
            <a:ext cx="60199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Volatilization Rate for all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: Kv [m/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" y="866880"/>
            <a:ext cx="2094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" y="1905120"/>
            <a:ext cx="2349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601992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zation Rate Assigned for each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: Kv [m/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8195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2819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tream/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97160" y="28195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ond/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76720"/>
            <a:ext cx="3048120" cy="533160"/>
          </a:xfrm>
          <a:prstGeom prst="flowChartProcess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ody Typ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276720"/>
            <a:ext cx="3048120" cy="533160"/>
          </a:xfrm>
          <a:prstGeom prst="flowChartProcess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ody Typ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809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267080"/>
            <a:ext cx="3505320" cy="457200"/>
          </a:xfrm>
          <a:prstGeom prst="flowChartProcess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2: Input Reaer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334120"/>
            <a:ext cx="3962520" cy="533160"/>
          </a:xfrm>
          <a:prstGeom prst="flowChartProcess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3: Calculates Volatiliz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81960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41148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91540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4876920"/>
            <a:ext cx="3048120" cy="380880"/>
          </a:xfrm>
          <a:prstGeom prst="flowChartProcess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2: Input Reaer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880" y="4114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’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8960" y="41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ck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23920" y="45720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6019920"/>
            <a:ext cx="3809880" cy="304560"/>
          </a:xfrm>
          <a:prstGeom prst="flowChartProcess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4: Calculates Volatiliz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410080"/>
            <a:ext cx="3048120" cy="381240"/>
          </a:xfrm>
          <a:prstGeom prst="flowChartProcess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3: Input Reaer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6400800"/>
            <a:ext cx="3809880" cy="304920"/>
          </a:xfrm>
          <a:prstGeom prst="flowChartProcess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5: Calculates Volatiliz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15400" y="4572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latilization Options and In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 “Constants Dat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Bod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: stream,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: pond, l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1, 2, and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 0 and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ization Loss Rate Constant [day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y’s Law Constant [atm-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mol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mospheric Concentration [g/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lecular We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ter Body Type 0: Stream/Riv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on 2, Reaeration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ter Body Type 1: Pond/L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on 2 or 4, Reaeration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542880" cy="51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077320" y="13716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29528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“Parameter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Temperature Function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 Water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Speed [m/se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 “Segments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Function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Function Multi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nsity of Active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381880" y="3809880"/>
            <a:ext cx="538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742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428640" y="6094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6600" y="304920"/>
            <a:ext cx="3812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219320"/>
            <a:ext cx="83808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144792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1714680"/>
            <a:ext cx="228600" cy="304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01924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3960" y="3552840"/>
            <a:ext cx="228600" cy="1419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6720 h 1419120"/>
              <a:gd name="textAreaBottom" fmla="*/ 1382400 h 14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50007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0760" y="2666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0760" y="408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8280" y="5591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" y="145728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a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188604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819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2768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57913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58160" cy="568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808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7920" y="68580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7240" y="1828800"/>
            <a:ext cx="22860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91440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" y="4114800"/>
            <a:ext cx="1491480" cy="36828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95280"/>
            <a:ext cx="6858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143000" y="2133720"/>
            <a:ext cx="76212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324000"/>
            <a:ext cx="1828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urn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ola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67400" y="2390760"/>
            <a:ext cx="4476600" cy="4467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485600">
            <a:off x="4051080" y="3024000"/>
            <a:ext cx="2307960" cy="920520"/>
          </a:xfrm>
          <a:prstGeom prst="rightArrow">
            <a:avLst>
              <a:gd name="adj1" fmla="val 50000"/>
              <a:gd name="adj2" fmla="val 62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57240" y="2009880"/>
            <a:ext cx="22860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209680"/>
            <a:ext cx="22860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57240" y="2400480"/>
            <a:ext cx="22860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3720" y="5029200"/>
            <a:ext cx="1425960" cy="64260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effic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00200" y="2590920"/>
            <a:ext cx="114300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62120" y="2362320"/>
            <a:ext cx="114300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095560" y="295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066680" y="533520"/>
            <a:ext cx="10670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548640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472428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27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114560"/>
            <a:ext cx="828720" cy="276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28600"/>
            <a:ext cx="213372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“Seg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676160"/>
            <a:ext cx="533520" cy="3809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029200" y="1676520"/>
            <a:ext cx="152280" cy="304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476760" y="1676160"/>
            <a:ext cx="75960" cy="426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295280"/>
            <a:ext cx="19051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1295280"/>
            <a:ext cx="13046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1295280"/>
            <a:ext cx="1600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943600"/>
            <a:ext cx="1218960" cy="64260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5029200"/>
            <a:ext cx="1828800" cy="64260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era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924680" y="1752480"/>
            <a:ext cx="0" cy="32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1295280"/>
            <a:ext cx="12193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latilization Time Fun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Time Fun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emperature [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Speed [m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ient Air Temperature [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aeration Coefficient [per da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5173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8:41Z</dcterms:created>
  <dc:creator>CKNIGHTES</dc:creator>
  <dc:description/>
  <dc:language>en-US</dc:language>
  <cp:lastModifiedBy>RAMBROSE</cp:lastModifiedBy>
  <dcterms:modified xsi:type="dcterms:W3CDTF">2005-07-12T15:16:15Z</dcterms:modified>
  <cp:revision>10</cp:revision>
  <dc:subject/>
  <dc:title>Volatilization</dc:title>
</cp:coreProperties>
</file>