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3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451-91AB-4E26-B5BF-D93ADC74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C36-C24B-4FD4-800A-0B98FE3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5C4-2C58-45F8-A0BF-D82DC38B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0B5-FA15-48D8-AA47-FA1B65A7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094-7DDC-4FAE-A417-475F3D03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E46-48EC-49CA-8319-814F888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74D-13D0-4CD2-A8B9-62B0FEA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417-832E-4DE8-A99B-14B6459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930-01CD-4461-9D1F-79FE742D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1CF-6F24-420E-B35A-53DC461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C33-F5DE-4B3A-A3AC-FC1BABA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5AB-8AA9-498F-9EAB-08C5716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778-02AA-4568-890B-0DB5199B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208080" cy="4987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81080" y="6400800"/>
            <a:ext cx="5639040" cy="235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1447920" cy="6829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6324480"/>
            <a:ext cx="152388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Impact"/>
              </a:rPr>
              <a:t>Dissolve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and Challenges Associated with TMD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Assumptions for Example TM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Monito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fully characterize the DO Sag at all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to No Chemi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DMR data for POT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Fully Calibrate Model Under Al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dy State Low Flow Condition Sim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657600" cy="237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2" dur="1" fill="hold"/>
                                  <p:tgtEl>
                                    <p:spTgt spid="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Calculating DO TMDL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roach and Assumptions Made Can Control the TMDL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Be Consid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Not Be Consid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MOS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195768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4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Assumptions for Developing DO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828800"/>
          <a:ext cx="792468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9246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62120" y="1820880"/>
          <a:ext cx="791676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820880"/>
                    <a:ext cx="79167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2496960" y="2631960"/>
            <a:ext cx="1843560" cy="1406520"/>
            <a:chOff x="2496960" y="2631960"/>
            <a:chExt cx="1843560" cy="1406520"/>
          </a:xfrm>
        </p:grpSpPr>
        <p:sp>
          <p:nvSpPr>
            <p:cNvPr id="101" name=""/>
            <p:cNvSpPr/>
            <p:nvPr/>
          </p:nvSpPr>
          <p:spPr>
            <a:xfrm flipH="1">
              <a:off x="2514240" y="327672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960" y="263196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 5 mg/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Assumptions for Developing DO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905120"/>
          <a:ext cx="79171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9171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09480" y="1905120"/>
          <a:ext cx="791712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79171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Assumptions for Developing DO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752480"/>
          <a:ext cx="79167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9167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3520" y="1752480"/>
          <a:ext cx="791676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752480"/>
                    <a:ext cx="79167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Productivity/Nutrient Enrichment Impacts on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ae/Macrophytes/Peri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Oxygen (Photosynthe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 Oxygen (Respi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Diurnal Swings i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Time (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ght Time (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Nutr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971800" cy="19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0" dur="1" fill="hold"/>
                                  <p:tgtEl>
                                    <p:spTgt spid="11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Target Iden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Qualit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sphorus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iting National Guidance/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be applicable to all water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Specific Criter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eed to be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log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 of All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494080" cy="24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1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Dissolved Oxygen Influenced by Productiv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2514600"/>
            <a:ext cx="8153640" cy="2819520"/>
            <a:chOff x="609480" y="2514600"/>
            <a:chExt cx="8153640" cy="2819520"/>
          </a:xfrm>
        </p:grpSpPr>
        <p:graphicFrame>
          <p:nvGraphicFramePr>
            <p:cNvPr id="121" name=""/>
            <p:cNvGraphicFramePr/>
            <p:nvPr/>
          </p:nvGraphicFramePr>
          <p:xfrm>
            <a:off x="609480" y="2514600"/>
            <a:ext cx="4038840" cy="2814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14600"/>
                      <a:ext cx="4038840" cy="28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4648320" y="2514600"/>
            <a:ext cx="4114800" cy="2819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2514600"/>
                      <a:ext cx="41148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3733920" y="2819520"/>
            <a:ext cx="1143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's the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Assumptions for Developing DO TMD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600200"/>
          <a:ext cx="79167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9167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3520" y="1600200"/>
          <a:ext cx="791676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00200"/>
                    <a:ext cx="79167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90720" y="1905120"/>
          <a:ext cx="3733560" cy="196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373356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105520" y="1905120"/>
          <a:ext cx="3747960" cy="197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05120"/>
                    <a:ext cx="37479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990720" y="4343400"/>
          <a:ext cx="3738600" cy="197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343400"/>
                    <a:ext cx="3738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114880" y="4343400"/>
          <a:ext cx="3738600" cy="1971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4880" y="4343400"/>
                    <a:ext cx="3738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143000" y="1066680"/>
          <a:ext cx="1295280" cy="1004760"/>
        </p:xfrm>
        <a:graphic>
          <a:graphicData uri="http://schemas.openxmlformats.org/drawingml/2006/table">
            <a:tbl>
              <a:tblPr/>
              <a:tblGrid>
                <a:gridCol w="498600"/>
                <a:gridCol w="79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257800" y="1066680"/>
          <a:ext cx="1295280" cy="1019160"/>
        </p:xfrm>
        <a:graphic>
          <a:graphicData uri="http://schemas.openxmlformats.org/drawingml/2006/table">
            <a:tbl>
              <a:tblPr/>
              <a:tblGrid>
                <a:gridCol w="498240"/>
                <a:gridCol w="797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143000" y="3657600"/>
          <a:ext cx="1295280" cy="971640"/>
        </p:xfrm>
        <a:graphic>
          <a:graphicData uri="http://schemas.openxmlformats.org/drawingml/2006/table">
            <a:tbl>
              <a:tblPr/>
              <a:tblGrid>
                <a:gridCol w="498600"/>
                <a:gridCol w="79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34120" y="3657600"/>
          <a:ext cx="1295280" cy="971640"/>
        </p:xfrm>
        <a:graphic>
          <a:graphicData uri="http://schemas.openxmlformats.org/drawingml/2006/table">
            <a:tbl>
              <a:tblPr/>
              <a:tblGrid>
                <a:gridCol w="498600"/>
                <a:gridCol w="79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75560" y="30492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ow Does the Assumption Change the TM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Data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the Monitoring Data Tell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causing the impair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y Weather Low Fl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nt Source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t Weather High Fl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O, MS4, N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w Flow following High Fl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O, MS4, N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v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urnal Variations in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ae, Macrophytes, Periphy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 Condi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82920" cy="280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4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ilrace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1720" y="1870200"/>
            <a:ext cx="757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eam segment is listed for low dissolved oxygen. 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represents tailwater release.  Is a TMDL 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ress this impairment, and if so, how should the TM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done.  A dynamic model exists for the reservoir wher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ve effects of pollutants versus pollution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ertained and analy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trien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7400" y="1870200"/>
            <a:ext cx="827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servoir is listed for nutrient enrichment.  Simple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, empirical and regression methods, and steady-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ynamic mechanistic models are being considered to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MDL for the reservoi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del should b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PA approve a TMDL developed with a screen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f so, is a phased approach necess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trient TMDL End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undment is listed for nutrient enrichment.  The waterbody is both light and phosphorus limited.  The designated uses are both drinking water and recreation.  The listing state has a narrative nutrient criteria.  The 305(b) report indicated that nuisance algal blooms led to listing.  How should the TMDL target be determ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/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43600" cy="42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L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752480"/>
          <a:ext cx="8229600" cy="44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22960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Produ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9480" y="2514600"/>
            <a:ext cx="8153640" cy="2819520"/>
            <a:chOff x="609480" y="2514600"/>
            <a:chExt cx="8153640" cy="2819520"/>
          </a:xfrm>
        </p:grpSpPr>
        <p:graphicFrame>
          <p:nvGraphicFramePr>
            <p:cNvPr id="56" name=""/>
            <p:cNvGraphicFramePr/>
            <p:nvPr/>
          </p:nvGraphicFramePr>
          <p:xfrm>
            <a:off x="609480" y="2514600"/>
            <a:ext cx="4038840" cy="2814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14600"/>
                      <a:ext cx="4038840" cy="28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4648320" y="2514600"/>
            <a:ext cx="4114800" cy="2819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2514600"/>
                      <a:ext cx="41148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Water Qual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Water Quality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ver less than 4 mg/l DO (Absolute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ily Average of 5 mg/l (Allows for Diurnal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ation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Standard is Applicable for the Development of the TM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ever is Targeted must be prot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Targeting the Absolute protect the Daily Avera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May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895480" cy="189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Components of </a:t>
            </a: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Dissolved</a:t>
            </a: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ses of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Ult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diment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xygen Consumed by Oxidation of Organic Material associated with the bent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xygen Consumed in the conversion of Ammonia to Nitrite/Nit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ph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iphy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300024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6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Components of </a:t>
            </a: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Dissolved</a:t>
            </a: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s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ydraulic Rea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 of water velocity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/Contro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 Driven Rea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 of Wind Speed, Air Temperature, Water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roph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iphy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77120" y="190512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6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Impact"/>
              </a:rPr>
              <a:t>Components of Dissolve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86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olved Oxyge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9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eration +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88620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(C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ec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OD + Respiration + 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S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stic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276720"/>
            <a:ext cx="7315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81240" y="3809880"/>
            <a:ext cx="755280" cy="1389960"/>
            <a:chOff x="1281240" y="3809880"/>
            <a:chExt cx="755280" cy="1389960"/>
          </a:xfrm>
        </p:grpSpPr>
        <p:sp>
          <p:nvSpPr>
            <p:cNvPr id="79" name=""/>
            <p:cNvSpPr/>
            <p:nvPr/>
          </p:nvSpPr>
          <p:spPr>
            <a:xfrm flipV="1">
              <a:off x="1600200" y="380988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81240" y="48625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T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400480"/>
            <a:ext cx="7315200" cy="419040"/>
            <a:chOff x="1066680" y="2400480"/>
            <a:chExt cx="7315200" cy="419040"/>
          </a:xfrm>
        </p:grpSpPr>
        <p:sp>
          <p:nvSpPr>
            <p:cNvPr id="82" name=""/>
            <p:cNvSpPr/>
            <p:nvPr/>
          </p:nvSpPr>
          <p:spPr>
            <a:xfrm>
              <a:off x="1066680" y="281952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7840" y="2400480"/>
              <a:ext cx="32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roximately 10 Mile Se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81080" y="3276720"/>
            <a:ext cx="2895840" cy="1419480"/>
            <a:chOff x="1981080" y="3276720"/>
            <a:chExt cx="2895840" cy="1419480"/>
          </a:xfrm>
        </p:grpSpPr>
        <p:sp>
          <p:nvSpPr>
            <p:cNvPr id="85" name=""/>
            <p:cNvSpPr/>
            <p:nvPr/>
          </p:nvSpPr>
          <p:spPr>
            <a:xfrm>
              <a:off x="1981080" y="3276720"/>
              <a:ext cx="2895840" cy="45720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819160" y="2971440"/>
              <a:ext cx="533520" cy="221004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2600" y="4419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aired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578040" y="4572000"/>
            <a:ext cx="48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Cause of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B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trient Enri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3:08:23Z</dcterms:created>
  <dc:creator>Tim Wool</dc:creator>
  <dc:description/>
  <dc:language>en-US</dc:language>
  <cp:lastModifiedBy>Tim</cp:lastModifiedBy>
  <dcterms:modified xsi:type="dcterms:W3CDTF">2002-06-04T12:19:27Z</dcterms:modified>
  <cp:revision>67</cp:revision>
  <dc:subject/>
  <dc:title>Dissolved Oxygen</dc:title>
</cp:coreProperties>
</file>