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895-D2CE-49F7-B23D-A35F4106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A0C-AAB1-48E4-B696-D8131242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679-669A-4EFD-AD51-0659C7C6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EF0-2AE9-4A78-B25E-882ED34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032-D795-400D-BFF7-5E37551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864-B0D9-4FFC-8290-15BCA0B5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031-059F-4969-AE47-26F3B6F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EE9-E0A8-4D4A-AA05-1CDE2673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C3D-98B5-436F-BDFE-9DB100DB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F23-F734-4085-A4CA-D045C4F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5C0-CFFE-4CBD-8451-89A4D66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563-F853-40F8-93D1-407F934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32B9-757E-4F7B-A3CE-82C7042F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Modeling Rivers and Streams using WA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30320" y="3143160"/>
            <a:ext cx="64008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haracteristics of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Distinguishing Modeling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Quality Mode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issolved oxygen (e.g. Streeter Phel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eutroph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troph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kind of processe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P Data Requirements fo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hydraulic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ing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P Channel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valid is one dimensional as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stra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lateral vari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 a considerable distance may be required for complete lateral mixing downstream of a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P Channel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a reach of river must be simu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if a material decays at a first order rate of 0.2/day, then the time for 90 percent of the material to decompose is 11.5 days.  If the river has a mean velocity of 1 ft/s, then  a parcel of water could travel 188 miles in tha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P Channel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ir lateral variatio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for a discharge into the side of a channel, the distance to downstream complete mixing can be estimated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5800" y="3505320"/>
                <a:ext cx="281952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u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14800" y="4343400"/>
                <a:ext cx="1797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 = gY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114800" y="3657600"/>
                <a:ext cx="1676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c Y 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943600" y="3505320"/>
            <a:ext cx="342900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channel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* = shear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top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transverse mixing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gravitational accelera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channel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oefficient (approximately 0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105520"/>
            <a:ext cx="38098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if u = 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0.5 m/s, Y = 2.5 m, W = 90 m, and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G Time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 = 0.0003, then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G Time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 = 12.6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P Channel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resolution (how many segments) are requir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too littl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not adequately characte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numerical dilution (assumption that a segment is completely 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too much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imes increased (controlled in part by travel time through smallest seg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 Flows to WA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measu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include flow measurements and time of trave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Hydrologic Stream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, Uniform Flow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ulic methods for steady, non-unifor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ulic methods for unsteady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of Velocities and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es and tra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, Depth, Velocity 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flow, WASP requires estimates of depth and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hydraulic characteristics affect processes such as reaeration and light pene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specified (descriptive approach) or obtained from hydrodynamic model pre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Relationships (descriptive approach onl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95480" y="1828800"/>
                <a:ext cx="262728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Y = a 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 = c 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 = e 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0666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where Q is flow, velocity u, depth Y, width W and a-f are empirical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Rivers and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008080"/>
            <a:ext cx="678168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Rivers and streams vary widely in their size, flows and ecologic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- They are strongly influenced by the characteristics of their watersh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- They range from small ephemeral or intermittent streams, which flow only in response to rainfall, to rivers such as the Mississippi-Missour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- The running nature of rivers and streams which generally distinguishes them from all other water bo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- Rivers and streams are 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lotic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 (from lotus, meaning washed) systems which are characterized by running water, as opposed to standing water or 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lentic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 (from lenis, meaning calm) water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- Rivers and streams generally flow in a particular direction within a definite channel (the 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thalweg</a:t>
            </a:r>
            <a:r>
              <a:rPr b="0" lang="en-US" sz="1800" spc="-1" strike="noStrike">
                <a:solidFill>
                  <a:srgbClr val="000000"/>
                </a:solidFill>
                <a:latin typeface="CG Times"/>
              </a:rPr>
              <a:t>) and ultimately discharge into some other wate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246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784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31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0" y="2286000"/>
                <a:ext cx="411480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 e =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 + d + f =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65120" y="2444760"/>
          <a:ext cx="75628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2444760"/>
                    <a:ext cx="75628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343400" y="59436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WASP Manual (Ambrose, Wool and Martin 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of Travel and Dy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dy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7280" y="2629080"/>
            <a:ext cx="741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Time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Dispersion and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Lagrangian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Dilution in reaeration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Circulation and st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Determining discharge in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Groundwater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Mass balanc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Source (discharge)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g Dye 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08160" y="1905120"/>
            <a:ext cx="4430520" cy="2282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61656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2720" y="6400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artin and McCutcheon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6295" r="0" b="0"/>
          <a:stretch/>
        </p:blipFill>
        <p:spPr>
          <a:xfrm>
            <a:off x="1828800" y="1523880"/>
            <a:ext cx="5257800" cy="475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95480" y="65530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EPA EWLA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e Studies: Flow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590920"/>
            <a:ext cx="0" cy="2743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5334120"/>
            <a:ext cx="7162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05120" y="3479760"/>
            <a:ext cx="2895120" cy="1854360"/>
            <a:chOff x="1905120" y="3479760"/>
            <a:chExt cx="2895120" cy="1854360"/>
          </a:xfrm>
        </p:grpSpPr>
        <p:grpSp>
          <p:nvGrpSpPr>
            <p:cNvPr id="110" name=""/>
            <p:cNvGrpSpPr/>
            <p:nvPr/>
          </p:nvGrpSpPr>
          <p:grpSpPr>
            <a:xfrm>
              <a:off x="3657240" y="3479760"/>
              <a:ext cx="1143000" cy="1854360"/>
              <a:chOff x="3657240" y="3479760"/>
              <a:chExt cx="1143000" cy="185436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4190400" y="3657600"/>
                <a:ext cx="609480" cy="1676520"/>
              </a:xfrm>
              <a:custGeom>
                <a:avLst/>
                <a:gdLst/>
                <a:ahLst/>
                <a:rect l="l" t="t" r="r" b="b"/>
                <a:pathLst>
                  <a:path w="384" h="1056">
                    <a:moveTo>
                      <a:pt x="0" y="1056"/>
                    </a:moveTo>
                    <a:cubicBezTo>
                      <a:pt x="112" y="952"/>
                      <a:pt x="224" y="848"/>
                      <a:pt x="288" y="672"/>
                    </a:cubicBezTo>
                    <a:cubicBezTo>
                      <a:pt x="352" y="496"/>
                      <a:pt x="368" y="248"/>
                      <a:pt x="38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657240" y="3479760"/>
                <a:ext cx="533520" cy="17784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112"/>
                    </a:moveTo>
                    <a:cubicBezTo>
                      <a:pt x="44" y="72"/>
                      <a:pt x="88" y="32"/>
                      <a:pt x="144" y="16"/>
                    </a:cubicBezTo>
                    <a:cubicBezTo>
                      <a:pt x="200" y="0"/>
                      <a:pt x="312" y="16"/>
                      <a:pt x="336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905120" y="3479760"/>
              <a:ext cx="1143000" cy="1854360"/>
              <a:chOff x="1905120" y="3479760"/>
              <a:chExt cx="1143000" cy="185436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3657600"/>
                <a:ext cx="609480" cy="1676520"/>
              </a:xfrm>
              <a:custGeom>
                <a:avLst/>
                <a:gdLst/>
                <a:ahLst/>
                <a:rect l="l" t="t" r="r" b="b"/>
                <a:pathLst>
                  <a:path w="384" h="1056">
                    <a:moveTo>
                      <a:pt x="0" y="1056"/>
                    </a:moveTo>
                    <a:cubicBezTo>
                      <a:pt x="112" y="952"/>
                      <a:pt x="224" y="848"/>
                      <a:pt x="288" y="672"/>
                    </a:cubicBezTo>
                    <a:cubicBezTo>
                      <a:pt x="352" y="496"/>
                      <a:pt x="368" y="248"/>
                      <a:pt x="38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14600" y="3479760"/>
                <a:ext cx="533520" cy="17784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112"/>
                    </a:moveTo>
                    <a:cubicBezTo>
                      <a:pt x="44" y="72"/>
                      <a:pt x="88" y="32"/>
                      <a:pt x="144" y="16"/>
                    </a:cubicBezTo>
                    <a:cubicBezTo>
                      <a:pt x="200" y="0"/>
                      <a:pt x="312" y="16"/>
                      <a:pt x="336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971800" y="3505320"/>
              <a:ext cx="762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400800" y="4267080"/>
            <a:ext cx="914040" cy="1067040"/>
            <a:chOff x="6400800" y="4267080"/>
            <a:chExt cx="914040" cy="1067040"/>
          </a:xfrm>
        </p:grpSpPr>
        <p:grpSp>
          <p:nvGrpSpPr>
            <p:cNvPr id="118" name=""/>
            <p:cNvGrpSpPr/>
            <p:nvPr/>
          </p:nvGrpSpPr>
          <p:grpSpPr>
            <a:xfrm>
              <a:off x="6954120" y="4267080"/>
              <a:ext cx="360720" cy="1067040"/>
              <a:chOff x="6954120" y="4267080"/>
              <a:chExt cx="360720" cy="106704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7122600" y="4369320"/>
                <a:ext cx="192240" cy="964800"/>
              </a:xfrm>
              <a:custGeom>
                <a:avLst/>
                <a:gdLst/>
                <a:ahLst/>
                <a:rect l="l" t="t" r="r" b="b"/>
                <a:pathLst>
                  <a:path w="384" h="1056">
                    <a:moveTo>
                      <a:pt x="0" y="1056"/>
                    </a:moveTo>
                    <a:cubicBezTo>
                      <a:pt x="112" y="952"/>
                      <a:pt x="224" y="848"/>
                      <a:pt x="288" y="672"/>
                    </a:cubicBezTo>
                    <a:cubicBezTo>
                      <a:pt x="352" y="496"/>
                      <a:pt x="368" y="248"/>
                      <a:pt x="38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954120" y="4267080"/>
                <a:ext cx="168480" cy="10224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112"/>
                    </a:moveTo>
                    <a:cubicBezTo>
                      <a:pt x="44" y="72"/>
                      <a:pt x="88" y="32"/>
                      <a:pt x="144" y="16"/>
                    </a:cubicBezTo>
                    <a:cubicBezTo>
                      <a:pt x="200" y="0"/>
                      <a:pt x="312" y="16"/>
                      <a:pt x="336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400800" y="4267080"/>
              <a:ext cx="360720" cy="1067040"/>
              <a:chOff x="6400800" y="4267080"/>
              <a:chExt cx="360720" cy="1067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400800" y="4369320"/>
                <a:ext cx="192240" cy="964800"/>
              </a:xfrm>
              <a:custGeom>
                <a:avLst/>
                <a:gdLst/>
                <a:ahLst/>
                <a:rect l="l" t="t" r="r" b="b"/>
                <a:pathLst>
                  <a:path w="384" h="1056">
                    <a:moveTo>
                      <a:pt x="0" y="1056"/>
                    </a:moveTo>
                    <a:cubicBezTo>
                      <a:pt x="112" y="952"/>
                      <a:pt x="224" y="848"/>
                      <a:pt x="288" y="672"/>
                    </a:cubicBezTo>
                    <a:cubicBezTo>
                      <a:pt x="352" y="496"/>
                      <a:pt x="368" y="248"/>
                      <a:pt x="38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93040" y="4267080"/>
                <a:ext cx="168480" cy="10224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112"/>
                    </a:moveTo>
                    <a:cubicBezTo>
                      <a:pt x="44" y="72"/>
                      <a:pt x="88" y="32"/>
                      <a:pt x="144" y="16"/>
                    </a:cubicBezTo>
                    <a:cubicBezTo>
                      <a:pt x="200" y="0"/>
                      <a:pt x="312" y="16"/>
                      <a:pt x="336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737400" y="4281480"/>
              <a:ext cx="240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14800" y="3733920"/>
            <a:ext cx="1676160" cy="1625400"/>
            <a:chOff x="4114800" y="3733920"/>
            <a:chExt cx="1676160" cy="1625400"/>
          </a:xfrm>
        </p:grpSpPr>
        <p:grpSp>
          <p:nvGrpSpPr>
            <p:cNvPr id="126" name=""/>
            <p:cNvGrpSpPr/>
            <p:nvPr/>
          </p:nvGrpSpPr>
          <p:grpSpPr>
            <a:xfrm>
              <a:off x="5129280" y="3733920"/>
              <a:ext cx="661680" cy="1625400"/>
              <a:chOff x="5129280" y="3733920"/>
              <a:chExt cx="661680" cy="162540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5438160" y="3889800"/>
                <a:ext cx="352800" cy="1469520"/>
              </a:xfrm>
              <a:custGeom>
                <a:avLst/>
                <a:gdLst/>
                <a:ahLst/>
                <a:rect l="l" t="t" r="r" b="b"/>
                <a:pathLst>
                  <a:path w="384" h="1056">
                    <a:moveTo>
                      <a:pt x="0" y="1056"/>
                    </a:moveTo>
                    <a:cubicBezTo>
                      <a:pt x="112" y="952"/>
                      <a:pt x="224" y="848"/>
                      <a:pt x="288" y="672"/>
                    </a:cubicBezTo>
                    <a:cubicBezTo>
                      <a:pt x="352" y="496"/>
                      <a:pt x="368" y="248"/>
                      <a:pt x="38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129280" y="3733920"/>
                <a:ext cx="308880" cy="15588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112"/>
                    </a:moveTo>
                    <a:cubicBezTo>
                      <a:pt x="44" y="72"/>
                      <a:pt x="88" y="32"/>
                      <a:pt x="144" y="16"/>
                    </a:cubicBezTo>
                    <a:cubicBezTo>
                      <a:pt x="200" y="0"/>
                      <a:pt x="312" y="16"/>
                      <a:pt x="336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114800" y="3733920"/>
              <a:ext cx="661680" cy="1625400"/>
              <a:chOff x="4114800" y="3733920"/>
              <a:chExt cx="661680" cy="1625400"/>
            </a:xfrm>
          </p:grpSpPr>
          <p:sp>
            <p:nvSpPr>
              <p:cNvPr id="130" name=""/>
              <p:cNvSpPr/>
              <p:nvPr/>
            </p:nvSpPr>
            <p:spPr>
              <a:xfrm>
                <a:off x="4114800" y="3889800"/>
                <a:ext cx="352800" cy="1469520"/>
              </a:xfrm>
              <a:custGeom>
                <a:avLst/>
                <a:gdLst/>
                <a:ahLst/>
                <a:rect l="l" t="t" r="r" b="b"/>
                <a:pathLst>
                  <a:path w="384" h="1056">
                    <a:moveTo>
                      <a:pt x="0" y="1056"/>
                    </a:moveTo>
                    <a:cubicBezTo>
                      <a:pt x="112" y="952"/>
                      <a:pt x="224" y="848"/>
                      <a:pt x="288" y="672"/>
                    </a:cubicBezTo>
                    <a:cubicBezTo>
                      <a:pt x="352" y="496"/>
                      <a:pt x="368" y="248"/>
                      <a:pt x="38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67600" y="3733920"/>
                <a:ext cx="308880" cy="15588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112"/>
                    </a:moveTo>
                    <a:cubicBezTo>
                      <a:pt x="44" y="72"/>
                      <a:pt x="88" y="32"/>
                      <a:pt x="144" y="16"/>
                    </a:cubicBezTo>
                    <a:cubicBezTo>
                      <a:pt x="200" y="0"/>
                      <a:pt x="312" y="16"/>
                      <a:pt x="336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732200" y="3756240"/>
              <a:ext cx="441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3581280" y="2895480"/>
            <a:ext cx="1067040" cy="60984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2514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(steady-state)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181120" y="3429000"/>
            <a:ext cx="38124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124080"/>
            <a:ext cx="22860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1295280"/>
                <a:ext cx="2666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ye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ye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y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rea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0666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505320"/>
            <a:ext cx="0" cy="2057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733920"/>
            <a:ext cx="0" cy="1828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426708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486400"/>
            <a:ext cx="16761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5638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=Length/Trave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32162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id of Dye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Rivers and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647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-Current is a major controlling or limiting factor in rivers and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- The flow often determines the expected variations in 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Cross-sectional mixing is usually rapid in comparison with other waterbodies, so that rivers and streams are often assumed for modeling purposes to be one-dimensional (longitudinal) systems.  That is, velocities are assumed to be adequately represented by a mean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Distinguishing Modeling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mode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quality mode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Distinguishing Modeling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ssume rivers are one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river, location and number of segments will vary with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Distinguishing Modeling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P Temporal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2560" y="3270240"/>
          <a:ext cx="746280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270240"/>
                    <a:ext cx="74628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si-stead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a dynamic model (such as WASP) using steady flows (descriptive f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a dynamic model with descriptive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time-varying flow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coupled hydrodynamic and qual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approach is to run hydrodynamic model and save output (flows, volumes, depths, velocities) for use by qual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for how long to appl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applications require continuous simulation (wet and dry weather peri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run a dynamic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lows are highly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peaking hydropower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the impact of transient inflows, such as from storm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quality is variabl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ng season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ng impact of storm events or a sequence of dry weather and storm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ritical conditions are not known (dry before wet, and 1 yr vs a 2 yr st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6:50:16Z</dcterms:created>
  <dc:creator>Tim Wool</dc:creator>
  <dc:description/>
  <dc:language>en-US</dc:language>
  <cp:lastModifiedBy>Tim Wool</cp:lastModifiedBy>
  <dcterms:modified xsi:type="dcterms:W3CDTF">2004-07-12T16:50:35Z</dcterms:modified>
  <cp:revision>1</cp:revision>
  <dc:subject/>
  <dc:title>Introduction to Modeling Rivers and Streams using WASP</dc:title>
</cp:coreProperties>
</file>